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716DA-9AF2-41E9-94EB-9BD8538102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2CE45-C78F-4D24-B2D5-8BB98723D1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0E20C-7D71-451D-BE07-0C332FBDDC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2B9B9-B1D8-4832-8D7B-C1DD12B344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36406-7031-4D51-B2EE-411B099849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B72FE-70B7-4D76-BF46-BAFEF704C9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77325-7A0F-4C88-A927-8EB84E53B6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AB330-A560-4D9D-88D3-176EEB3C30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6476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13A64-6D28-4EFC-9616-CAADFC76F1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01978-6558-4F82-AD87-8DC04C87B4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C5DB1-CFD8-4B6F-AAE2-46F0A7B071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8C56D-B24E-4DF2-B405-558E71E013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CE0E-EB60-4BD5-8C82-189420384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1447920"/>
            <a:ext cx="739116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Myth of the Ubiquitous $0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door Install</a:t>
            </a:r>
            <a:br>
              <a:rPr sz="3600"/>
            </a:br>
            <a:br>
              <a:rPr sz="36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r. Malik Audeh</a:t>
            </a:r>
            <a:br>
              <a:rPr sz="3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 of Wireless System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Networks, In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ik.audeh@hybrid.com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bruary 13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54864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eps Forw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equalization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-domain equal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 recovery from inevitable deep f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ive modulation and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on of RF and modem at C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receive diversity when appropr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y not necessary in all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73197-B4E9-4C28-836C-B1C8A05D78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5638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rther Ste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2361960"/>
            <a:ext cx="83822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oor installation where link budget al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grate to standards-based IEEE 802.16a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orous IEEE process, no single-vendor architectural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volume baseband chipset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volume RF chipset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A58EA-D414-4F2B-9B84-0EB6D41903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5486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service tiers improve operator RO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ology to serve ITFS licensees for more efficient spectrum sh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lled user         no streaming, no multi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5603760"/>
            <a:ext cx="6094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04008-8C68-4812-9155-117A203DAE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5715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G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ally Delayed 3G services are arriving with data as an add-on to v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-speed, streaming data may have unknown effects to voice-based protoco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DMA self-interference may have unknown effect on scalabi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deoff processing gain (robustness) for capac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8B9E9-0075-4B31-9BD9-67A770F76C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58672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ison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27160" y="1905120"/>
          <a:ext cx="871848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" y="1905120"/>
                    <a:ext cx="871848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88440-4C9C-4A92-9D44-BA61A88B13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57913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s’ goals are cl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, economical deployment strategy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complete system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the learning curve of unproven technologies that have not even been deploy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loy a second-generation system that is founded on a reliable, scalable, globally deployed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antially increases probability of su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E268C-17A1-4640-91D9-9285BD8B48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6120" y="914040"/>
            <a:ext cx="5459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 demand complete and economica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ques to meet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D9DAB-517A-4939-8E6E-132A94033A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73915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ustry Requirements for Grow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inst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S, 90% co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-cost CPE ($50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talled co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E067C-3FB0-4E25-85E5-12FA861066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7543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f-Install is a System-Wide Iss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oice of $0 install affects virtually every architectural system deci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bu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ha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in Loaded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59B6A-B77C-4003-8B39-11695A9FD0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$0 Install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ossible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mforming, complex phased array anten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D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modulation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MO, multi-user de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$0 install is technically possible, but is only relevant if the product can be economically deployed to consumers and businesses on a timely basis to maximize market penetr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5FC94-9B7F-41E8-BAAE-126F15E3FC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6248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our Industry Nee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4876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OFDM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yCDM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 antenna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product fits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2CB9B-AEE1-439B-A1C9-6717E07C10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6248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loyment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cells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of DSL and cable modem method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+ years beh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tructure not yet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wed build-as-you-grow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 layered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 entire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-as-you-grow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2B2F0-6609-4FFF-A5AB-2FDB40A8C6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5486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owth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1965240"/>
            <a:ext cx="3610080" cy="35355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94640" y="3666960"/>
            <a:ext cx="60120" cy="590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010280" y="2687760"/>
            <a:ext cx="687600" cy="687240"/>
            <a:chOff x="7010280" y="2687760"/>
            <a:chExt cx="687600" cy="687240"/>
          </a:xfrm>
        </p:grpSpPr>
        <p:sp>
          <p:nvSpPr>
            <p:cNvPr id="58" name=""/>
            <p:cNvSpPr/>
            <p:nvPr/>
          </p:nvSpPr>
          <p:spPr>
            <a:xfrm>
              <a:off x="7010280" y="2687760"/>
              <a:ext cx="68760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46520" y="302724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7483320" y="2309760"/>
            <a:ext cx="687600" cy="687600"/>
            <a:chOff x="7483320" y="2309760"/>
            <a:chExt cx="687600" cy="687600"/>
          </a:xfrm>
        </p:grpSpPr>
        <p:sp>
          <p:nvSpPr>
            <p:cNvPr id="61" name=""/>
            <p:cNvSpPr/>
            <p:nvPr/>
          </p:nvSpPr>
          <p:spPr>
            <a:xfrm>
              <a:off x="7483320" y="2309760"/>
              <a:ext cx="68760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19560" y="264960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389560" y="3195720"/>
            <a:ext cx="687240" cy="687240"/>
            <a:chOff x="5389560" y="3195720"/>
            <a:chExt cx="687240" cy="687240"/>
          </a:xfrm>
        </p:grpSpPr>
        <p:sp>
          <p:nvSpPr>
            <p:cNvPr id="64" name=""/>
            <p:cNvSpPr/>
            <p:nvPr/>
          </p:nvSpPr>
          <p:spPr>
            <a:xfrm>
              <a:off x="5389560" y="3195720"/>
              <a:ext cx="68724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25800" y="353520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6800760" y="4444920"/>
            <a:ext cx="687600" cy="687600"/>
            <a:chOff x="6800760" y="4444920"/>
            <a:chExt cx="687600" cy="687600"/>
          </a:xfrm>
        </p:grpSpPr>
        <p:sp>
          <p:nvSpPr>
            <p:cNvPr id="67" name=""/>
            <p:cNvSpPr/>
            <p:nvPr/>
          </p:nvSpPr>
          <p:spPr>
            <a:xfrm>
              <a:off x="6800760" y="4444920"/>
              <a:ext cx="68760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37000" y="478476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593120" y="2922480"/>
            <a:ext cx="687240" cy="687600"/>
            <a:chOff x="7593120" y="2922480"/>
            <a:chExt cx="687240" cy="687600"/>
          </a:xfrm>
        </p:grpSpPr>
        <p:sp>
          <p:nvSpPr>
            <p:cNvPr id="70" name=""/>
            <p:cNvSpPr/>
            <p:nvPr/>
          </p:nvSpPr>
          <p:spPr>
            <a:xfrm>
              <a:off x="7593120" y="2922480"/>
              <a:ext cx="68724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929360" y="326232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156360" y="4457880"/>
            <a:ext cx="687240" cy="687240"/>
            <a:chOff x="6156360" y="4457880"/>
            <a:chExt cx="687240" cy="687240"/>
          </a:xfrm>
        </p:grpSpPr>
        <p:sp>
          <p:nvSpPr>
            <p:cNvPr id="73" name=""/>
            <p:cNvSpPr/>
            <p:nvPr/>
          </p:nvSpPr>
          <p:spPr>
            <a:xfrm>
              <a:off x="6156360" y="4457880"/>
              <a:ext cx="68724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92600" y="479736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438280" y="2468520"/>
            <a:ext cx="1295640" cy="1295640"/>
            <a:chOff x="2438280" y="2468520"/>
            <a:chExt cx="1295640" cy="1295640"/>
          </a:xfrm>
        </p:grpSpPr>
        <p:sp>
          <p:nvSpPr>
            <p:cNvPr id="76" name=""/>
            <p:cNvSpPr/>
            <p:nvPr/>
          </p:nvSpPr>
          <p:spPr>
            <a:xfrm>
              <a:off x="340812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0812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0812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0812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165480" y="26298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65480" y="295236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165480" y="32749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92320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2320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2320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2320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80560" y="26298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680560" y="295236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80560" y="32749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3828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3828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3828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3828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20320" y="31042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63320" y="26204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68360" y="3264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25360" y="3426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683800" y="3264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83800" y="2942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25360" y="2780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68360" y="2942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887400" y="5773680"/>
            <a:ext cx="3181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Cell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e to Market, Limited 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935000"/>
            <a:ext cx="3610080" cy="3535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97080" y="5773680"/>
            <a:ext cx="4015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 Layer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oad Market Coverage, Hotspot follow-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67A21-3A97-4266-8CBF-553E7EF176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69339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ving Ahead from a Solid B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10,000 CPE proven on one base station, over 2,000 CPE proven on a single 6-MHz s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PEs deployed 1-35 miles from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nstrated high throughput under lo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en disaster recove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function despite interference and human err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150,000 lines of continually enhanced field-hardened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d architecture for stronger secu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nstrated support of multiple backhaul options (many TDMA protocols preclude RF backhau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110A0-9B07-45A1-98CC-D57B4E5E55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16:26:27Z</dcterms:created>
  <dc:creator>audeh</dc:creator>
  <dc:description/>
  <dc:language>en-US</dc:language>
  <cp:lastModifiedBy>Karen Crain</cp:lastModifiedBy>
  <cp:lastPrinted>2002-02-08T19:22:59Z</cp:lastPrinted>
  <dcterms:modified xsi:type="dcterms:W3CDTF">2002-02-10T20:28:58Z</dcterms:modified>
  <cp:revision>46</cp:revision>
  <dc:subject/>
  <dc:title>What does the industry need?</dc:title>
</cp:coreProperties>
</file>