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jpeg" ContentType="image/jpeg"/>
  <Override PartName="/ppt/media/image4.jpeg" ContentType="image/jpeg"/>
  <Override PartName="/ppt/media/image5.jpeg" ContentType="image/jpeg"/>
  <Override PartName="/ppt/media/image6.wmf" ContentType="image/x-wmf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9DD70-D54E-478F-8716-1173AF2A9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54D7C-6FC2-4579-B4E6-783DF8A1F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49789-70D0-4683-A6BD-1CA81EE45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952B8-4A7D-4FC3-84E8-B527A5093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C4CE0-9DD3-4685-96EC-7062A9A3C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264CE-EBC7-4572-A03B-40BC41B7C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D5DAE-0B24-4057-878A-635E0BD9C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271AA-C25F-48F5-94E3-6F95F8265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41299-5AC7-40E5-8EA6-06F07536A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75D5B-E3AC-407A-887C-37E168400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25861-F3BD-4725-A336-DF2BEFFE9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10DFF-9928-42BC-A0E2-32147C007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DC667-4C39-49A3-84A3-76D3C371E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97C58-C7D0-4E75-9D62-09846BBDE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56824-3BC1-4EA5-9821-D573A3C44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9FA91-A2FD-424E-B78D-91843EE3B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210F7-645A-4F48-8926-E068E796F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06F0D-A479-424E-B090-F9571CA47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412BD-BF0C-452C-8901-80150F9F8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EAFF9-60C8-49D6-8140-B29DA8386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DD1A9-7241-4E9B-9C79-246F63CC3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1F889-B93B-474D-B5D8-E619549B6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8B588-775A-4897-824A-096B94FEB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B17BB-9D4A-46C8-A722-74B46A386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EE310-FA26-4264-BB7E-9CC864C607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7F407-DE69-45D2-9E9F-3A16D79F1A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jpeg"/><Relationship Id="rId4" Type="http://schemas.openxmlformats.org/officeDocument/2006/relationships/package" Target="../embeddings/oleObject2.docx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cttclogo1%206-2000" descr=""/>
          <p:cNvPicPr/>
          <p:nvPr/>
        </p:nvPicPr>
        <p:blipFill>
          <a:blip r:embed="rId1"/>
          <a:stretch/>
        </p:blipFill>
        <p:spPr>
          <a:xfrm>
            <a:off x="152280" y="228600"/>
            <a:ext cx="1828800" cy="122220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2438280" y="304920"/>
            <a:ext cx="5943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Caslon Regular"/>
              </a:rPr>
              <a:t>Central Texas Telephone Cooperative, In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566440" y="2362320"/>
            <a:ext cx="497988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EST PRACTICE: Planning and Execu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 Profitable Coverage Pl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oadband Wireless World For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ebruary 12-14, 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596240" y="4782960"/>
            <a:ext cx="402732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esented By:  Larry D. Pechacek, P.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entral Texas Telephone Cooperative, In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ief Technology Offic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2" name=""/>
          <p:cNvGraphicFramePr/>
          <p:nvPr/>
        </p:nvGraphicFramePr>
        <p:xfrm>
          <a:off x="228600" y="1600200"/>
          <a:ext cx="36180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00200"/>
                    <a:ext cx="3618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133360" y="533160"/>
            <a:ext cx="64767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Caslon Regular"/>
              </a:rPr>
              <a:t>MMDS/LMDS - Network Consideration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95" name="cttclogo1%206-2000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1828800" cy="122220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1596600" y="2330280"/>
            <a:ext cx="5668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Transport via ATM Network Allowing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ultiple Services via ATM Swit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ircuit Emulation Interface To TDM Net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curity via ATM VPI/VC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ccess Concentration via ATM Switch Servi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rect Network QoS Contr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597680" y="4127400"/>
            <a:ext cx="576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Co-location of MMDS and LMDS Systems Where Nee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596240" y="4510080"/>
            <a:ext cx="470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Off Load Data Traffic From End Office Swit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594080" y="4890960"/>
            <a:ext cx="67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Off Load VoIP to local End Office Switch - Existing Class 5 Circu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witches With Appreciable Service Life From Both Financ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d Services Perspect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94800" y="1981080"/>
            <a:ext cx="585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Integrate Wireless Systems with Existing Wireline Net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1" name=""/>
          <p:cNvGraphicFramePr/>
          <p:nvPr/>
        </p:nvGraphicFramePr>
        <p:xfrm>
          <a:off x="228600" y="1600200"/>
          <a:ext cx="36180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00200"/>
                    <a:ext cx="3618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133360" y="533160"/>
            <a:ext cx="64767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Caslon Regular"/>
              </a:rPr>
              <a:t>MMDS/LMDS - RF Planning Consideration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04" name="cttclogo1%206-2000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1828800" cy="1222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595520" y="3672000"/>
            <a:ext cx="6721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MMDS/LMDS Sectorization Used to Accommodate Capac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quirements Characterized by Customer Density and Us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haracteristics (Capacity and Symmetr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594080" y="1828800"/>
            <a:ext cx="695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MMDS Will Begin with 3 Super Cells and Additional Mini/Micro Cel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n as Needed Basis As Dictated By Line-of-Sight Iss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597320" y="2438280"/>
            <a:ext cx="662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MMDS Requires Planning and Coordination with Surrounding B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rvice Provid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594080" y="3016080"/>
            <a:ext cx="729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MMDS Radius of Coverage, Channel Bandwidth, and Modu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lementations Must be Coordinated for Best Fit to Requir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595160" y="4616280"/>
            <a:ext cx="704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LMDS Requires Careful Radius of Coverage Determination Based Up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in Fade and Reli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598040" y="5226120"/>
            <a:ext cx="631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Permitting of Telecommunications Facilities Can be Problemat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599120" y="5576760"/>
            <a:ext cx="545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Frequency Planning for TDD Systems vs FDD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593360" y="5958000"/>
            <a:ext cx="678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Land Base and RF Planning Software for Link Evaluation &amp; Plann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3" name=""/>
          <p:cNvGraphicFramePr/>
          <p:nvPr/>
        </p:nvGraphicFramePr>
        <p:xfrm>
          <a:off x="228600" y="1600200"/>
          <a:ext cx="36180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00200"/>
                    <a:ext cx="3618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133360" y="533160"/>
            <a:ext cx="64767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Caslon Regular"/>
              </a:rPr>
              <a:t>LMDS – Initial San Angelo, Tx RF Coverage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16" name="cttclogo1%206-2000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1828800" cy="1222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7" name=""/>
          <p:cNvGraphicFramePr/>
          <p:nvPr/>
        </p:nvGraphicFramePr>
        <p:xfrm>
          <a:off x="1447920" y="1828800"/>
          <a:ext cx="6781680" cy="409896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21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447920" y="1828800"/>
                    <a:ext cx="6781680" cy="409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9" name=""/>
          <p:cNvGraphicFramePr/>
          <p:nvPr/>
        </p:nvGraphicFramePr>
        <p:xfrm>
          <a:off x="228600" y="1600200"/>
          <a:ext cx="36180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00200"/>
                    <a:ext cx="3618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133360" y="533160"/>
            <a:ext cx="64767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Caslon Regular"/>
              </a:rPr>
              <a:t>LMDS - Project/Network Today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22" name="cttclogo1%206-2000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1828800" cy="122220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1592280" y="1905120"/>
            <a:ext cx="6238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 Started With a 3 Base Station Deployment In San Angelo and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ne Base Station Deployment In Goldthwaite U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wbridge Networks Equi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595160" y="2819520"/>
            <a:ext cx="57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 Redeployed Using Ensemble Communications Equi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594080" y="3214800"/>
            <a:ext cx="6537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 Currently Hav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 Base Stations Deployed in San Angelo, wi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5 Sectors Using both A and B Band Spectr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roximately 52 Customers and 45 CPE Deploy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and Voice (Limited) Services Provided and Look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wards Video Services in the Fu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593000" y="4967280"/>
            <a:ext cx="6878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mmary:  Allowed us to go into San Angelo, a town of 100,000 people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d very efficiently deploy facilities without overbuilding, and exp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ur service area and create additional revenue streams as a full servi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EC offering advanced broad band servic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7" name=""/>
          <p:cNvGraphicFramePr/>
          <p:nvPr/>
        </p:nvGraphicFramePr>
        <p:xfrm>
          <a:off x="228600" y="1600200"/>
          <a:ext cx="36180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00200"/>
                    <a:ext cx="3618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133360" y="533160"/>
            <a:ext cx="64767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Caslon Regular"/>
              </a:rPr>
              <a:t>MMDS - Project/Network Today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30" name="cttclogo1%206-2000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1828800" cy="122220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1594440" y="2057400"/>
            <a:ext cx="653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Have Deployed Evaluation System in Goldthwaite and Undergo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valuation Tes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90480" y="4343400"/>
            <a:ext cx="70617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mmary:  If it works as anticipated, and as we expect, the MM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ireless local loop will allow us to deliver broad band services c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fficiently across our Cooperative area and potentially save us million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llars.  It will also allow us to cost efficiently expand our competit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verage areas into the surrounding rural are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594080" y="306216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Have Deployed 8 Test CPE with Services Being Provided Up To 25 Mi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594440" y="3427560"/>
            <a:ext cx="6666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Have Test Customer Installations Providing 2-Way Data and Analo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V Using the Same Antenna.  (Replace the receiver with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nsceiver and add a data mode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599120" y="2666880"/>
            <a:ext cx="58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Using MDS I for Upstream and MMDS E1 for Downstre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6" name=""/>
          <p:cNvGraphicFramePr/>
          <p:nvPr/>
        </p:nvGraphicFramePr>
        <p:xfrm>
          <a:off x="228600" y="1600200"/>
          <a:ext cx="36180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00200"/>
                    <a:ext cx="3618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133360" y="533160"/>
            <a:ext cx="64767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Caslon Regular"/>
              </a:rPr>
              <a:t>LMDS - WLL Characteristic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39" name="cttclogo1%206-2000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1828800" cy="122220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1594440" y="2330280"/>
            <a:ext cx="56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Capable of Providing up to 3 and 5 Mile Coverage Radi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596960" y="2725560"/>
            <a:ext cx="641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Generally Proprietary Equipment Based Upon ATM and DOC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nda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597680" y="3335400"/>
            <a:ext cx="531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Data Delivery Speeds Developing Towards 100 Mb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96240" y="4114800"/>
            <a:ext cx="405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RF Propagation is Line of Sight Limi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93720" y="4495680"/>
            <a:ext cx="626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RF Propagation Not Generally Subject to Multipath Inter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594800" y="4876920"/>
            <a:ext cx="601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Equipment Costs are Relatively Greater Compared to MM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592280" y="3716280"/>
            <a:ext cx="718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Cell (TDM via Circuit Emulation) and Packet Based Network Techn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7" name=""/>
          <p:cNvGraphicFramePr/>
          <p:nvPr/>
        </p:nvGraphicFramePr>
        <p:xfrm>
          <a:off x="228600" y="1600200"/>
          <a:ext cx="36180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00200"/>
                    <a:ext cx="3618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2133360" y="533160"/>
            <a:ext cx="64767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Caslon Regular"/>
              </a:rPr>
              <a:t>MMDS - WLL Characteristic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50" name="cttclogo1%206-2000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1828800" cy="12222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1595520" y="2330280"/>
            <a:ext cx="524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Capable of Providing 25 to 30 Mile Coverage Radi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95880" y="2725560"/>
            <a:ext cx="57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Both Standards Based and Proprietary Solutions Avail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597680" y="3106800"/>
            <a:ext cx="663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Data Delivery Speeds Up To 3 Mbps on Standards Based (DOCSI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595880" y="3854520"/>
            <a:ext cx="465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RF Propagation Relatively Unaffected by R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593000" y="4235400"/>
            <a:ext cx="623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RF Propagation is Line of Sight Limited (or Near Line of Sigh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593720" y="4616280"/>
            <a:ext cx="640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RF Propagation Subject to Multipath Interference (or Challenge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594800" y="4997520"/>
            <a:ext cx="585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Equipment Costs are Relatively Lower Compared to LM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598400" y="3487680"/>
            <a:ext cx="359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Packet Based Network Techn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9" name=""/>
          <p:cNvGraphicFramePr/>
          <p:nvPr/>
        </p:nvGraphicFramePr>
        <p:xfrm>
          <a:off x="228600" y="1600200"/>
          <a:ext cx="36180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00200"/>
                    <a:ext cx="3618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133360" y="533160"/>
            <a:ext cx="64767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Caslon Regular"/>
              </a:rPr>
              <a:t>MMDS/LMDS - Experiences To Date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62" name="cttclogo1%206-2000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1828800" cy="1222200"/>
          </a:xfrm>
          <a:prstGeom prst="rect">
            <a:avLst/>
          </a:prstGeom>
          <a:ln w="0">
            <a:noFill/>
          </a:ln>
        </p:spPr>
      </p:pic>
      <p:sp>
        <p:nvSpPr>
          <p:cNvPr id="263" name=""/>
          <p:cNvSpPr/>
          <p:nvPr/>
        </p:nvSpPr>
        <p:spPr>
          <a:xfrm>
            <a:off x="1594080" y="1905120"/>
            <a:ext cx="6775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 Experience Gained From Wireless TV Start-Up and Operations Ha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duced Learning Curve for the 2-Way WLL Techn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d Start-up Issues/Concer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595160" y="2819520"/>
            <a:ext cx="6683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 Experience Gained During First LMDS Deployment Has Been V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eneficial to Ascertaining Technology and Custom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pec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591920" y="3656160"/>
            <a:ext cx="667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 Interconnection Agreement Negotiations Were Initially Tedious 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ngthy; Today Favorable Agreements Exist That May 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ted I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591920" y="4494240"/>
            <a:ext cx="635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 Zoning and Permitting of Telecommunications Facilities Can 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lemati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594440" y="5105520"/>
            <a:ext cx="656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 Expect the MMDS and LMDS WLL Technologies Will Play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gnificant Role in Enabling Advanced and Broad B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lecommunications, and Expanding Our Service Area 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venue Options in a Cost Effective Mann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8" name=""/>
          <p:cNvGraphicFramePr/>
          <p:nvPr/>
        </p:nvGraphicFramePr>
        <p:xfrm>
          <a:off x="228600" y="1600200"/>
          <a:ext cx="36180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00200"/>
                    <a:ext cx="3618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133360" y="533160"/>
            <a:ext cx="64767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Caslon Regular"/>
              </a:rPr>
              <a:t>MMDS/LMDS - Conclusion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71" name="cttclogo1%206-2000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1828800" cy="122220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/>
          <p:nvPr/>
        </p:nvSpPr>
        <p:spPr>
          <a:xfrm>
            <a:off x="1596240" y="2133720"/>
            <a:ext cx="6688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CTTC and CTC - Very Excited About the Economic and Servi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sibilities the MMDS and LMDS WLL Technologies Wi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able for our Organization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e Fu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590480" y="3048120"/>
            <a:ext cx="6941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 We Believe WLL Technologies Will be an Important Asset Significa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Surviving Forthcoming Regulatory Requirements and in 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creasingly Competitive Environ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590840" y="3960720"/>
            <a:ext cx="6698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 We Believe WLL Technologies Will Potentially Save us Million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llars by Alleviating the Need to Rock Saw for Plac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ble in the Grou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590480" y="4876920"/>
            <a:ext cx="640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 We Believe WLL Technologies Will Prove to be a Cost Effic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d Technically Capable Broadband Alternativ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1" name=""/>
          <p:cNvGraphicFramePr/>
          <p:nvPr/>
        </p:nvGraphicFramePr>
        <p:xfrm>
          <a:off x="228600" y="1600200"/>
          <a:ext cx="36180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00200"/>
                    <a:ext cx="3618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600200" y="533160"/>
            <a:ext cx="64771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Caslon Regular"/>
              </a:rPr>
              <a:t>CTTC Introduction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34" name="cttclogo1%206-2000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1828800" cy="12222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1597320" y="2286000"/>
            <a:ext cx="399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 Founded in 1951 in Goldthwaite Tex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598040" y="2743200"/>
            <a:ext cx="425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Serves Approximately 3,302 Square Mi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596600" y="3200400"/>
            <a:ext cx="563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Consists of 17 Telephone Exchanges with DSL Deploy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all Exchan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598040" y="3824280"/>
            <a:ext cx="444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Provides Approximately 7,600 Access Li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596600" y="4738680"/>
            <a:ext cx="467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Member of the Texas Lone Star Fiber Net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594440" y="5195880"/>
            <a:ext cx="698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Provides Unregulated Services Through Central Texas Commun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95520" y="4295880"/>
            <a:ext cx="593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Provides Distance Learning by Connecting 12 Rural Scho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228600" y="1600200"/>
          <a:ext cx="36180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00200"/>
                    <a:ext cx="3618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600200" y="533160"/>
            <a:ext cx="64771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Caslon Regular"/>
              </a:rPr>
              <a:t>CTC Introduction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45" name="cttclogo1%206-2000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1828800" cy="122220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1596600" y="2286000"/>
            <a:ext cx="708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 Formed in 1993 to Provide Wireless TV Services Using MDS &amp; MM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598400" y="2743200"/>
            <a:ext cx="419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Serves Approximately 4700 Square Mi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597680" y="3200400"/>
            <a:ext cx="492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Consists of 3 Super Cells with Analog Head En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595520" y="3657600"/>
            <a:ext cx="695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Provides Video Broadcast Services to Approximately 3,000 Subscrib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597680" y="4129200"/>
            <a:ext cx="446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Provides Long Distance to CTTC Custom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599120" y="4586400"/>
            <a:ext cx="37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Operates an ISP Business Since 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598040" y="5027760"/>
            <a:ext cx="604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Participated in the 1997/1998 LMDS Auction and Acquir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 &amp; B Spectrum Blocks in 2 Basic Trade Are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vering 19 County Area Consisting of 212,000 po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3" name=""/>
          <p:cNvGraphicFramePr/>
          <p:nvPr/>
        </p:nvGraphicFramePr>
        <p:xfrm>
          <a:off x="228600" y="1600200"/>
          <a:ext cx="36180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00200"/>
                    <a:ext cx="3618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600200" y="533160"/>
            <a:ext cx="64771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Caslon Regular"/>
              </a:rPr>
              <a:t>CTTC and CTC Coverage Area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56" name="cttclogo1%206-2000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1828800" cy="1222200"/>
          </a:xfrm>
          <a:prstGeom prst="rect">
            <a:avLst/>
          </a:prstGeom>
          <a:ln w="0">
            <a:noFill/>
          </a:ln>
        </p:spPr>
      </p:pic>
      <p:pic>
        <p:nvPicPr>
          <p:cNvPr id="157" name="Texas%20LMDS_MMDS_ILEC%20Larry3" descr=""/>
          <p:cNvPicPr/>
          <p:nvPr/>
        </p:nvPicPr>
        <p:blipFill>
          <a:blip r:embed="rId4"/>
          <a:stretch/>
        </p:blipFill>
        <p:spPr>
          <a:xfrm>
            <a:off x="1828800" y="1295280"/>
            <a:ext cx="6324480" cy="52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8" name=""/>
          <p:cNvGraphicFramePr/>
          <p:nvPr/>
        </p:nvGraphicFramePr>
        <p:xfrm>
          <a:off x="228600" y="1600200"/>
          <a:ext cx="36180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00200"/>
                    <a:ext cx="3618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33360" y="533160"/>
            <a:ext cx="64767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Caslon Regular"/>
              </a:rPr>
              <a:t>Legacy Narrow Band Network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61" name="cttclogo1%206-2000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1828800" cy="1222200"/>
          </a:xfrm>
          <a:prstGeom prst="rect">
            <a:avLst/>
          </a:prstGeom>
          <a:ln w="0">
            <a:noFill/>
          </a:ln>
        </p:spPr>
      </p:pic>
      <p:pic>
        <p:nvPicPr>
          <p:cNvPr id="162" name="Circuit%20Network%20No%20Title" descr=""/>
          <p:cNvPicPr/>
          <p:nvPr/>
        </p:nvPicPr>
        <p:blipFill>
          <a:blip r:embed="rId4"/>
          <a:stretch/>
        </p:blipFill>
        <p:spPr>
          <a:xfrm>
            <a:off x="2057400" y="16002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3" name=""/>
          <p:cNvGraphicFramePr/>
          <p:nvPr/>
        </p:nvGraphicFramePr>
        <p:xfrm>
          <a:off x="228600" y="1600200"/>
          <a:ext cx="36180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00200"/>
                    <a:ext cx="3618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33360" y="533160"/>
            <a:ext cx="64767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Caslon Regular"/>
              </a:rPr>
              <a:t>Fixed Wireless (LMDS) and ATM Network Overlay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66" name="cttclogo1%206-2000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1828800" cy="1222200"/>
          </a:xfrm>
          <a:prstGeom prst="rect">
            <a:avLst/>
          </a:prstGeom>
          <a:ln w="0">
            <a:noFill/>
          </a:ln>
        </p:spPr>
      </p:pic>
      <p:pic>
        <p:nvPicPr>
          <p:cNvPr id="167" name="ATM%20Overlay" descr=""/>
          <p:cNvPicPr/>
          <p:nvPr/>
        </p:nvPicPr>
        <p:blipFill>
          <a:blip r:embed="rId4"/>
          <a:stretch/>
        </p:blipFill>
        <p:spPr>
          <a:xfrm>
            <a:off x="1905120" y="1600200"/>
            <a:ext cx="609588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8" name=""/>
          <p:cNvGraphicFramePr/>
          <p:nvPr/>
        </p:nvGraphicFramePr>
        <p:xfrm>
          <a:off x="228600" y="1600200"/>
          <a:ext cx="36180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00200"/>
                    <a:ext cx="3618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133360" y="533160"/>
            <a:ext cx="64767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Caslon Regular"/>
              </a:rPr>
              <a:t>Motivations for Wireless Technologie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71" name="cttclogo1%206-2000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1828800" cy="122220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1593360" y="2286000"/>
            <a:ext cx="635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CTTC Services a High Cost Area - Alternative to Bulldozing 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ock Saw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99120" y="3519360"/>
            <a:ext cx="23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Expand Service Are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598400" y="3914640"/>
            <a:ext cx="313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Enable New Revenue Strea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594440" y="4295880"/>
            <a:ext cx="6015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Enable Enhanced Services to our Communi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oad Band Servi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st Effective Packet Based Enabling Technolog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hanced Voice Services (VoI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92640" y="2895480"/>
            <a:ext cx="579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CTC - Cost Efficient Local Loop Enabling Facilities Bas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ll Services Telecommun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7" name=""/>
          <p:cNvGraphicFramePr/>
          <p:nvPr/>
        </p:nvGraphicFramePr>
        <p:xfrm>
          <a:off x="228600" y="1600200"/>
          <a:ext cx="36180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00200"/>
                    <a:ext cx="3618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133360" y="533160"/>
            <a:ext cx="64767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Caslon Regular"/>
              </a:rPr>
              <a:t>MMDS/LMDS - Market Consideration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80" name="cttclogo1%206-2000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1828800" cy="122220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1592640" y="1981080"/>
            <a:ext cx="67492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2-Way MMD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arge Radius of Coverage Area Suitable for Sparsely Populated Are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cket Based 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Speeds up to Approximately 3 Mbps (DOCSI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gnificantly Lower CPE Cos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enerally Suitable Technology for Residential, SOHO, and Sma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593360" y="4005360"/>
            <a:ext cx="66715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LMD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hort Radius of Coverage Area Suitable for Densely Populated Are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oth ATM and Packet Based Systems Avail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Speeds up to Approximately 100 Mb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latively Higher CPE Cos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enerally Suitable Technology for Small Through Very La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3" name=""/>
          <p:cNvGraphicFramePr/>
          <p:nvPr/>
        </p:nvGraphicFramePr>
        <p:xfrm>
          <a:off x="228600" y="1600200"/>
          <a:ext cx="36180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00200"/>
                    <a:ext cx="3618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33360" y="533160"/>
            <a:ext cx="64767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Caslon Regular"/>
              </a:rPr>
              <a:t>MMDS &amp; LMDS - Getting Started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86" name="cttclogo1%206-2000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1828800" cy="122220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1596600" y="1905120"/>
            <a:ext cx="461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 Use Spectrum We’ve Secured Over the Yea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593720" y="3930480"/>
            <a:ext cx="663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 Identified Requirements and Issued a Detailed Request for Propos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Selected Vend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595520" y="2681280"/>
            <a:ext cx="4902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 Leveraging Existing Asse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ber Network Into Surrounding Are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putation of Mobile Wireless Affili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ireless TV Facili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597680" y="4586400"/>
            <a:ext cx="5529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 Selected Vendors and Deployed Evaluatio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MDS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wbridge Networks/Alcat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semble Commun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MDS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avecom Communications and Cis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598040" y="2286000"/>
            <a:ext cx="436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 Perform Preliminary Network RF Plann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0T18:19:14Z</dcterms:created>
  <dc:creator>Mike Connely</dc:creator>
  <dc:description/>
  <dc:language>en-US</dc:language>
  <cp:lastModifiedBy>LarryP</cp:lastModifiedBy>
  <cp:lastPrinted>2001-12-18T15:54:35Z</cp:lastPrinted>
  <dcterms:modified xsi:type="dcterms:W3CDTF">2002-02-06T21:23:23Z</dcterms:modified>
  <cp:revision>77</cp:revision>
  <dc:subject/>
  <dc:title>No Slide Title</dc:title>
</cp:coreProperties>
</file>