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7B09-BF00-4AF7-B79D-920E9A9C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F732-0275-42F2-B120-D1867298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23D-47A5-45A3-8F59-8F8A537F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274-CBEB-4A36-B266-2A5BFC8D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C2F7-CFE5-46E4-B75C-BB337E1D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E196-F776-46F8-BB1D-4A49696A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9B32-0CEB-4275-B02C-1B41373A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416A-5EC0-4DD8-8FED-30C8FE23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DCBA-28F5-4244-BB1D-17D53E53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D723-78F2-4016-BC83-9BEBF80D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DF63-7669-4D0F-910F-E95A4D10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A47D-673C-42E4-9867-1E02BFEF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396F-BFCF-40C9-A1EE-585A42C1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B0D6-9ED9-467B-B8F2-264D3029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27B0-6BDC-47E5-A608-79CC5A64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C5A8-5BC1-49D9-A122-4C54540C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A1A1-41F1-4DB4-AA35-3EA22B28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FAFC-9004-4C35-8CB0-3DDE5082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F4B0-CF4D-4119-A770-B9366CB3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1DF-BE0D-457B-9751-5F106D76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49A6-1C3C-4B93-8064-B189DA53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30BA-D44E-4815-8C25-9642C28F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5BF8-282A-4CB2-B918-4544CEEE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9F9-0CBC-461A-9EEE-FFA5F963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CC3B-3BD4-4800-A3EE-38EA7624C5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8CF7-7B8A-496E-AA71-8014021344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Infrastruktur Informasi Untuk Bang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Rantai 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2422440"/>
          <a:ext cx="91440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2440"/>
                    <a:ext cx="91440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892680" y="1911240"/>
            <a:ext cx="5168880" cy="341640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126360 h 3416400"/>
              <a:gd name="textAreaBottom" fmla="*/ 2728440 h 3416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mbangunan Bertum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da Gerakan Bottom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 Koperasi-Koper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8960" y="3352680"/>
            <a:ext cx="6013440" cy="2279880"/>
          </a:xfrm>
          <a:custGeom>
            <a:avLst/>
            <a:gdLst>
              <a:gd name="textAreaLeft" fmla="*/ 222480 w 6013440"/>
              <a:gd name="textAreaRight" fmla="*/ 5790960 w 6013440"/>
              <a:gd name="textAreaTop" fmla="*/ 84240 h 2279880"/>
              <a:gd name="textAreaBottom" fmla="*/ 1820880 h 2279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danya Sistem Inform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mudahkan Interl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tar Koper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5840" y="1600200"/>
            <a:ext cx="4635720" cy="2432160"/>
          </a:xfrm>
          <a:custGeom>
            <a:avLst/>
            <a:gdLst>
              <a:gd name="textAreaLeft" fmla="*/ 171360 w 4635720"/>
              <a:gd name="textAreaRight" fmla="*/ 4464360 w 4635720"/>
              <a:gd name="textAreaTop" fmla="*/ 90000 h 2432160"/>
              <a:gd name="textAreaBottom" fmla="*/ 1942560 h 24321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aksi Den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stem Di Atas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njadi lebih mud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838080"/>
            <a:ext cx="6769080" cy="17463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Ekonomi Na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990720"/>
            <a:ext cx="5403600" cy="1593720"/>
          </a:xfrm>
          <a:custGeom>
            <a:avLst/>
            <a:gdLst>
              <a:gd name="textAreaLeft" fmla="*/ 199800 w 5403600"/>
              <a:gd name="textAreaRight" fmla="*/ 5203800 w 5403600"/>
              <a:gd name="textAreaTop" fmla="*/ 59040 h 1593720"/>
              <a:gd name="textAreaBottom" fmla="*/ 1272960 h 15937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asar Komod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B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92680" y="914400"/>
            <a:ext cx="5168880" cy="174636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ographic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1720" y="685800"/>
            <a:ext cx="6769080" cy="17463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nd Informat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rot="16200000">
            <a:off x="-69480" y="2825280"/>
            <a:ext cx="2501640" cy="2349360"/>
          </a:xfrm>
          <a:prstGeom prst="rightArrow">
            <a:avLst>
              <a:gd name="adj1" fmla="val 50000"/>
              <a:gd name="adj2" fmla="val 53245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368440" y="1378080"/>
            <a:ext cx="6693120" cy="5244840"/>
          </a:xfrm>
          <a:custGeom>
            <a:avLst/>
            <a:gdLst>
              <a:gd name="textAreaLeft" fmla="*/ 360 w 6693120"/>
              <a:gd name="textAreaRight" fmla="*/ 6693840 w 669312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si Tingkat Bunga Yang A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ilaku Masyarakat Da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nggunaan Sumber Daya Lok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okasi Dana Tingkat Kelu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 Pola Investa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 flipH="1" rot="16200000">
            <a:off x="-546840" y="2844720"/>
            <a:ext cx="3492360" cy="2311560"/>
          </a:xfrm>
          <a:prstGeom prst="rightArrow">
            <a:avLst>
              <a:gd name="adj1" fmla="val 50000"/>
              <a:gd name="adj2" fmla="val 75548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521080" y="463680"/>
            <a:ext cx="6387840" cy="6311880"/>
          </a:xfrm>
          <a:custGeom>
            <a:avLst/>
            <a:gdLst>
              <a:gd name="textAreaLeft" fmla="*/ 360 w 6387840"/>
              <a:gd name="textAreaRight" fmla="*/ 6388560 w 6387840"/>
              <a:gd name="textAreaTop" fmla="*/ 0 h 6311880"/>
              <a:gd name="textAreaBottom" fmla="*/ 6312240 h 631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sar Komod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si &amp; Peratur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knologi Tepat G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kwa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ormasi Management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isari e-Dagang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= komunika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percayaan (trus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nis-to-bis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nis-to-custom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ori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s. Business - Custom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menggunakan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menggunakan WARN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 /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s. Business - Busi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2622600"/>
          <a:ext cx="9144000" cy="30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2600"/>
                    <a:ext cx="914400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 (ED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ksi text based melalui jaring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ksi standard dengan berbagai instans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v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ja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nci adalah database &amp; software EDI transla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kus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dukung Transaksi Dagang Sekala Kec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kung Pengembangan Knowledge Management Bang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 Whom EDI Can Be Us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ing / fund transfer / credit / debit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; Legal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line / ticketing; Shipping / car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nder / contract; Purchase order; In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b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l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x; Reinsu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jor cost to move to ED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rchase EDI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 with a VAN service provider (or Interne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data analysis needed to map information from their application systems into the EDI standard form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programming required to create a file that can interface with EDI translation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base dibalik Web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1371600"/>
            <a:ext cx="4648320" cy="2971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.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/EDIFAC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4724280" y="228600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4495680"/>
            <a:ext cx="99036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6019920" y="2286000"/>
            <a:ext cx="1218960" cy="10666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24680" y="4876920"/>
            <a:ext cx="1219320" cy="1218960"/>
          </a:xfrm>
          <a:prstGeom prst="diamond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477120" y="4419720"/>
            <a:ext cx="99036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Pendekatan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istis untuk di-implementasikan secara swadaya masyarak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ttom-up &amp; tidak didanai oleh BAPPENAS apalagi utang ke IMF / WB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oh gerakan offensive yang sedang terjadi dilapang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EDI Mess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EDI Mess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521080" y="2139840"/>
            <a:ext cx="6540480" cy="3568680"/>
          </a:xfrm>
          <a:custGeom>
            <a:avLst/>
            <a:gdLst>
              <a:gd name="textAreaLeft" fmla="*/ 360 w 6540480"/>
              <a:gd name="textAreaRight" fmla="*/ 6541200 w 654048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CII Text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Protect,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PGP, PEM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 flipH="1" rot="10800000">
            <a:off x="767160" y="3663720"/>
            <a:ext cx="6769080" cy="250164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2520 h 2501640"/>
              <a:gd name="textAreaBottom" fmla="*/ 1998000 h 2501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 The User to Connect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N &amp;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121280" y="1682640"/>
            <a:ext cx="4940280" cy="2425680"/>
          </a:xfrm>
          <a:custGeom>
            <a:avLst/>
            <a:gdLst>
              <a:gd name="textAreaLeft" fmla="*/ 182880 w 4940280"/>
              <a:gd name="textAreaRight" fmla="*/ 4757400 w 49402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rewall To Prot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 flipH="1" rot="10800000">
            <a:off x="4730760" y="3359160"/>
            <a:ext cx="4330800" cy="2882880"/>
          </a:xfrm>
          <a:custGeom>
            <a:avLst/>
            <a:gdLst>
              <a:gd name="textAreaLeft" fmla="*/ 160200 w 4330800"/>
              <a:gd name="textAreaRight" fmla="*/ 4170600 w 4330800"/>
              <a:gd name="textAreaTop" fmla="*/ 106560 h 2882880"/>
              <a:gd name="textAreaBottom" fmla="*/ 2302560 h 2882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unneling 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e Extra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Virtual VA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3968640" y="3206880"/>
            <a:ext cx="5092920" cy="2730240"/>
          </a:xfrm>
          <a:custGeom>
            <a:avLst/>
            <a:gdLst>
              <a:gd name="textAreaLeft" fmla="*/ 188640 w 5092920"/>
              <a:gd name="textAreaRight" fmla="*/ 4904640 w 5092920"/>
              <a:gd name="textAreaTop" fmla="*/ 100800 h 2730240"/>
              <a:gd name="textAreaBottom" fmla="*/ 2180520 h 2730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GP / PEM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ed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TCP/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Teknologi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erbit PT. Elexmedia Komputi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o Buku Gra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a@elexmedia.co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actical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 Houser, J. Griffin &amp; C. Hage, “Request for Comments: 1865: EDI Meets the Internet - Frequently Asked Questions about Electronic Data Interchange (EDI) on the Internet”, January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menggunakan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menggunakan WARN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 /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= komunik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mai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ffisien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ta membutuhkan kemampuan kompeti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886200" y="4800600"/>
            <a:ext cx="5029200" cy="1447920"/>
          </a:xfrm>
          <a:prstGeom prst="wedgeRectCallout">
            <a:avLst>
              <a:gd name="adj1" fmla="val -60134"/>
              <a:gd name="adj2" fmla="val 7609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mpetitiveness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Pengetahu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mampuan Kompetitif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ncari Model Sederhana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066680" y="2070000"/>
          <a:ext cx="8028000" cy="478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070000"/>
                    <a:ext cx="802800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simpulan Sementa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kya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mb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Lambat … cocok bagi rakyat banya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Peranta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dak Berarti Internally Sl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sempat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Dunia Lamb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sa Lihat / Dengar / Ba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asi Pa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3200400" y="205740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N2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n21.ac-id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ylti.or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257800" y="0"/>
          <a:ext cx="3886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0"/>
                    <a:ext cx="3886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0" y="2330280"/>
          <a:ext cx="9144000" cy="25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30280"/>
                    <a:ext cx="914400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2133720"/>
          <a:ext cx="914400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914400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Penting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 e-dagang buat raky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 menuju masyarakat pengetahuan (knowledge based society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ing teknologi Informasi sederh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lized / distribu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isasi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ting (ICR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p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sh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-mai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1851120"/>
          <a:ext cx="9144000" cy="50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1120"/>
                    <a:ext cx="914400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2286000" y="685800"/>
            <a:ext cx="5181480" cy="2057400"/>
          </a:xfrm>
          <a:prstGeom prst="wedgeRoundRectCallout">
            <a:avLst>
              <a:gd name="adj1" fmla="val 35476"/>
              <a:gd name="adj2" fmla="val 96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erantara ke Masyarak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edia Massa / L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snis – to – Bisn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base – to –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isi databa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mbaga Penelitian / Pendidik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ta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Mas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port Technology Knowledg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nabling Knowledge Manage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0" y="1995480"/>
            <a:ext cx="9143640" cy="4772160"/>
            <a:chOff x="0" y="1995480"/>
            <a:chExt cx="9143640" cy="4772160"/>
          </a:xfrm>
        </p:grpSpPr>
        <p:sp>
          <p:nvSpPr>
            <p:cNvPr id="269" name=""/>
            <p:cNvSpPr/>
            <p:nvPr/>
          </p:nvSpPr>
          <p:spPr>
            <a:xfrm>
              <a:off x="8192520" y="5312160"/>
              <a:ext cx="951120" cy="1433160"/>
            </a:xfrm>
            <a:custGeom>
              <a:avLst/>
              <a:gdLst/>
              <a:ahLst/>
              <a:rect l="l" t="t" r="r" b="b"/>
              <a:pathLst>
                <a:path w="575" h="709">
                  <a:moveTo>
                    <a:pt x="271" y="708"/>
                  </a:moveTo>
                  <a:lnTo>
                    <a:pt x="0" y="301"/>
                  </a:lnTo>
                  <a:lnTo>
                    <a:pt x="254" y="0"/>
                  </a:lnTo>
                  <a:lnTo>
                    <a:pt x="574" y="352"/>
                  </a:lnTo>
                  <a:lnTo>
                    <a:pt x="271" y="708"/>
                  </a:lnTo>
                </a:path>
              </a:pathLst>
            </a:custGeom>
            <a:solidFill>
              <a:srgbClr val="9090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87160" y="5312160"/>
              <a:ext cx="4427280" cy="612720"/>
            </a:xfrm>
            <a:custGeom>
              <a:avLst/>
              <a:gdLst/>
              <a:ahLst/>
              <a:rect l="l" t="t" r="r" b="b"/>
              <a:pathLst>
                <a:path w="2676" h="303">
                  <a:moveTo>
                    <a:pt x="0" y="302"/>
                  </a:moveTo>
                  <a:lnTo>
                    <a:pt x="2421" y="302"/>
                  </a:lnTo>
                  <a:lnTo>
                    <a:pt x="2675" y="0"/>
                  </a:lnTo>
                  <a:lnTo>
                    <a:pt x="342" y="0"/>
                  </a:lnTo>
                  <a:lnTo>
                    <a:pt x="0" y="302"/>
                  </a:lnTo>
                </a:path>
              </a:pathLst>
            </a:custGeom>
            <a:solidFill>
              <a:srgbClr val="7800c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56960" y="5924880"/>
              <a:ext cx="4886640" cy="812160"/>
            </a:xfrm>
            <a:custGeom>
              <a:avLst/>
              <a:gdLst/>
              <a:ahLst/>
              <a:rect l="l" t="t" r="r" b="b"/>
              <a:pathLst>
                <a:path w="2954" h="402">
                  <a:moveTo>
                    <a:pt x="259" y="0"/>
                  </a:moveTo>
                  <a:lnTo>
                    <a:pt x="2680" y="0"/>
                  </a:lnTo>
                  <a:lnTo>
                    <a:pt x="2953" y="401"/>
                  </a:lnTo>
                  <a:lnTo>
                    <a:pt x="0" y="401"/>
                  </a:lnTo>
                  <a:lnTo>
                    <a:pt x="259" y="0"/>
                  </a:lnTo>
                </a:path>
              </a:pathLst>
            </a:custGeom>
            <a:solidFill>
              <a:srgbClr val="3c3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99320" y="4445280"/>
              <a:ext cx="840240" cy="1295280"/>
            </a:xfrm>
            <a:custGeom>
              <a:avLst/>
              <a:gdLst/>
              <a:ahLst/>
              <a:rect l="l" t="t" r="r" b="b"/>
              <a:pathLst>
                <a:path w="508" h="641">
                  <a:moveTo>
                    <a:pt x="258" y="640"/>
                  </a:moveTo>
                  <a:lnTo>
                    <a:pt x="0" y="224"/>
                  </a:lnTo>
                  <a:lnTo>
                    <a:pt x="189" y="0"/>
                  </a:lnTo>
                  <a:lnTo>
                    <a:pt x="507" y="353"/>
                  </a:lnTo>
                  <a:lnTo>
                    <a:pt x="258" y="640"/>
                  </a:lnTo>
                </a:path>
              </a:pathLst>
            </a:custGeom>
            <a:solidFill>
              <a:srgbClr val="ff2f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88280" y="4445280"/>
              <a:ext cx="3326760" cy="456480"/>
            </a:xfrm>
            <a:custGeom>
              <a:avLst/>
              <a:gdLst/>
              <a:ahLst/>
              <a:rect l="l" t="t" r="r" b="b"/>
              <a:pathLst>
                <a:path w="2011" h="226">
                  <a:moveTo>
                    <a:pt x="0" y="225"/>
                  </a:moveTo>
                  <a:lnTo>
                    <a:pt x="1821" y="225"/>
                  </a:lnTo>
                  <a:lnTo>
                    <a:pt x="2010" y="0"/>
                  </a:lnTo>
                  <a:lnTo>
                    <a:pt x="360" y="1"/>
                  </a:lnTo>
                  <a:lnTo>
                    <a:pt x="0" y="225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66720" y="4906080"/>
              <a:ext cx="3861000" cy="842760"/>
            </a:xfrm>
            <a:custGeom>
              <a:avLst/>
              <a:gdLst/>
              <a:ahLst/>
              <a:rect l="l" t="t" r="r" b="b"/>
              <a:pathLst>
                <a:path w="2334" h="417">
                  <a:moveTo>
                    <a:pt x="0" y="416"/>
                  </a:moveTo>
                  <a:lnTo>
                    <a:pt x="2333" y="416"/>
                  </a:lnTo>
                  <a:lnTo>
                    <a:pt x="2075" y="0"/>
                  </a:lnTo>
                  <a:lnTo>
                    <a:pt x="256" y="0"/>
                  </a:lnTo>
                  <a:lnTo>
                    <a:pt x="0" y="416"/>
                  </a:lnTo>
                </a:path>
              </a:pathLst>
            </a:custGeom>
            <a:solidFill>
              <a:srgbClr val="ff00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9640" y="3624480"/>
              <a:ext cx="734400" cy="1123560"/>
            </a:xfrm>
            <a:custGeom>
              <a:avLst/>
              <a:gdLst/>
              <a:ahLst/>
              <a:rect l="l" t="t" r="r" b="b"/>
              <a:pathLst>
                <a:path w="444" h="556">
                  <a:moveTo>
                    <a:pt x="0" y="151"/>
                  </a:moveTo>
                  <a:lnTo>
                    <a:pt x="263" y="555"/>
                  </a:lnTo>
                  <a:lnTo>
                    <a:pt x="443" y="348"/>
                  </a:lnTo>
                  <a:lnTo>
                    <a:pt x="128" y="0"/>
                  </a:lnTo>
                  <a:lnTo>
                    <a:pt x="0" y="151"/>
                  </a:lnTo>
                </a:path>
              </a:pathLst>
            </a:custGeom>
            <a:solidFill>
              <a:srgbClr val="bf5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7960" y="3624480"/>
              <a:ext cx="2223360" cy="304920"/>
            </a:xfrm>
            <a:custGeom>
              <a:avLst/>
              <a:gdLst/>
              <a:ahLst/>
              <a:rect l="l" t="t" r="r" b="b"/>
              <a:pathLst>
                <a:path w="1344" h="151">
                  <a:moveTo>
                    <a:pt x="0" y="150"/>
                  </a:moveTo>
                  <a:lnTo>
                    <a:pt x="1215" y="150"/>
                  </a:lnTo>
                  <a:lnTo>
                    <a:pt x="1343" y="0"/>
                  </a:lnTo>
                  <a:lnTo>
                    <a:pt x="339" y="0"/>
                  </a:lnTo>
                  <a:lnTo>
                    <a:pt x="0" y="150"/>
                  </a:lnTo>
                </a:path>
              </a:pathLst>
            </a:custGeom>
            <a:solidFill>
              <a:srgbClr val="5f00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59560" y="3921480"/>
              <a:ext cx="2874960" cy="822600"/>
            </a:xfrm>
            <a:custGeom>
              <a:avLst/>
              <a:gdLst/>
              <a:ahLst/>
              <a:rect l="l" t="t" r="r" b="b"/>
              <a:pathLst>
                <a:path w="1738" h="407">
                  <a:moveTo>
                    <a:pt x="0" y="406"/>
                  </a:moveTo>
                  <a:lnTo>
                    <a:pt x="1737" y="406"/>
                  </a:lnTo>
                  <a:lnTo>
                    <a:pt x="1474" y="0"/>
                  </a:lnTo>
                  <a:lnTo>
                    <a:pt x="259" y="0"/>
                  </a:lnTo>
                  <a:lnTo>
                    <a:pt x="0" y="406"/>
                  </a:lnTo>
                </a:path>
              </a:pathLst>
            </a:custGeom>
            <a:solidFill>
              <a:srgbClr val="9f3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98520" y="2789640"/>
              <a:ext cx="633600" cy="984240"/>
            </a:xfrm>
            <a:custGeom>
              <a:avLst/>
              <a:gdLst/>
              <a:ahLst/>
              <a:rect l="l" t="t" r="r" b="b"/>
              <a:pathLst>
                <a:path w="383" h="487">
                  <a:moveTo>
                    <a:pt x="261" y="486"/>
                  </a:moveTo>
                  <a:lnTo>
                    <a:pt x="382" y="347"/>
                  </a:lnTo>
                  <a:lnTo>
                    <a:pt x="66" y="0"/>
                  </a:lnTo>
                  <a:lnTo>
                    <a:pt x="0" y="73"/>
                  </a:lnTo>
                  <a:lnTo>
                    <a:pt x="261" y="486"/>
                  </a:lnTo>
                </a:path>
              </a:pathLst>
            </a:custGeom>
            <a:solidFill>
              <a:srgbClr val="ff9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99520" y="2787840"/>
              <a:ext cx="1108080" cy="149400"/>
            </a:xfrm>
            <a:custGeom>
              <a:avLst/>
              <a:gdLst/>
              <a:ahLst/>
              <a:rect l="l" t="t" r="r" b="b"/>
              <a:pathLst>
                <a:path w="670" h="74">
                  <a:moveTo>
                    <a:pt x="0" y="73"/>
                  </a:moveTo>
                  <a:lnTo>
                    <a:pt x="603" y="73"/>
                  </a:lnTo>
                  <a:lnTo>
                    <a:pt x="669" y="0"/>
                  </a:lnTo>
                  <a:lnTo>
                    <a:pt x="208" y="0"/>
                  </a:lnTo>
                  <a:lnTo>
                    <a:pt x="0" y="73"/>
                  </a:lnTo>
                </a:path>
              </a:pathLst>
            </a:cu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60680" y="2935440"/>
              <a:ext cx="1871280" cy="838800"/>
            </a:xfrm>
            <a:custGeom>
              <a:avLst/>
              <a:gdLst/>
              <a:ahLst/>
              <a:rect l="l" t="t" r="r" b="b"/>
              <a:pathLst>
                <a:path w="1131" h="415">
                  <a:moveTo>
                    <a:pt x="0" y="414"/>
                  </a:moveTo>
                  <a:lnTo>
                    <a:pt x="1130" y="414"/>
                  </a:lnTo>
                  <a:lnTo>
                    <a:pt x="868" y="0"/>
                  </a:lnTo>
                  <a:lnTo>
                    <a:pt x="263" y="0"/>
                  </a:lnTo>
                  <a:lnTo>
                    <a:pt x="0" y="414"/>
                  </a:lnTo>
                </a:path>
              </a:pathLst>
            </a:custGeom>
            <a:solidFill>
              <a:srgbClr val="f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3800" y="1995480"/>
              <a:ext cx="534600" cy="832680"/>
            </a:xfrm>
            <a:custGeom>
              <a:avLst/>
              <a:gdLst/>
              <a:ahLst/>
              <a:rect l="l" t="t" r="r" b="b"/>
              <a:pathLst>
                <a:path w="323" h="412">
                  <a:moveTo>
                    <a:pt x="262" y="411"/>
                  </a:moveTo>
                  <a:lnTo>
                    <a:pt x="322" y="347"/>
                  </a:lnTo>
                  <a:lnTo>
                    <a:pt x="0" y="0"/>
                  </a:lnTo>
                  <a:lnTo>
                    <a:pt x="262" y="411"/>
                  </a:lnTo>
                </a:path>
              </a:pathLst>
            </a:custGeom>
            <a:solidFill>
              <a:srgbClr val="7eea7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75480" y="2013480"/>
              <a:ext cx="868320" cy="832680"/>
            </a:xfrm>
            <a:custGeom>
              <a:avLst/>
              <a:gdLst/>
              <a:ahLst/>
              <a:rect l="l" t="t" r="r" b="b"/>
              <a:pathLst>
                <a:path w="525" h="412">
                  <a:moveTo>
                    <a:pt x="0" y="411"/>
                  </a:moveTo>
                  <a:lnTo>
                    <a:pt x="524" y="411"/>
                  </a:lnTo>
                  <a:lnTo>
                    <a:pt x="262" y="0"/>
                  </a:lnTo>
                  <a:lnTo>
                    <a:pt x="0" y="411"/>
                  </a:lnTo>
                </a:path>
              </a:pathLst>
            </a:custGeom>
            <a:solidFill>
              <a:srgbClr val="24ed3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25280" y="2381400"/>
              <a:ext cx="205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rowser, Mailbo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6640" y="2351160"/>
              <a:ext cx="44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U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24480" y="3309120"/>
              <a:ext cx="1568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istrib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99160" y="4317840"/>
              <a:ext cx="28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cessing/Intellig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06920" y="5181120"/>
              <a:ext cx="1314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63960" y="6082200"/>
              <a:ext cx="730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89760" y="3228480"/>
              <a:ext cx="2829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ublish, Push, Broadc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0680" y="3960000"/>
              <a:ext cx="4511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arch/Retrieve, Agent, Information Mining, Filters, Collabo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7480" y="4907880"/>
              <a:ext cx="4253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essaging, Middleware, Workflow, WWW/Internet, GroupWare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5852160"/>
              <a:ext cx="40550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ocument Repository, DBMS, Data Warehouse, Legacy, Internet, Extrane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 Load 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-9720" y="2743200"/>
            <a:ext cx="2602080" cy="3778920"/>
            <a:chOff x="-9720" y="2743200"/>
            <a:chExt cx="2602080" cy="3778920"/>
          </a:xfrm>
        </p:grpSpPr>
        <p:sp>
          <p:nvSpPr>
            <p:cNvPr id="295" name=""/>
            <p:cNvSpPr/>
            <p:nvPr/>
          </p:nvSpPr>
          <p:spPr>
            <a:xfrm>
              <a:off x="34920" y="2743200"/>
              <a:ext cx="1480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preadshe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4880" y="3321000"/>
              <a:ext cx="1797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Word processing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-9720" y="4306680"/>
              <a:ext cx="1498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resent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75200" y="4987800"/>
              <a:ext cx="720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id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5440" y="5292720"/>
              <a:ext cx="738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14080" y="5653080"/>
              <a:ext cx="770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-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4320" y="6186240"/>
              <a:ext cx="1152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oice 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362320" y="2819520"/>
            <a:ext cx="3650760" cy="2893320"/>
            <a:chOff x="2362320" y="2819520"/>
            <a:chExt cx="3650760" cy="2893320"/>
          </a:xfrm>
        </p:grpSpPr>
        <p:grpSp>
          <p:nvGrpSpPr>
            <p:cNvPr id="303" name=""/>
            <p:cNvGrpSpPr/>
            <p:nvPr/>
          </p:nvGrpSpPr>
          <p:grpSpPr>
            <a:xfrm>
              <a:off x="4611600" y="3990960"/>
              <a:ext cx="1401480" cy="1604880"/>
              <a:chOff x="4611600" y="3990960"/>
              <a:chExt cx="1401480" cy="1604880"/>
            </a:xfrm>
          </p:grpSpPr>
          <p:sp>
            <p:nvSpPr>
              <p:cNvPr id="304" name=""/>
              <p:cNvSpPr/>
              <p:nvPr/>
            </p:nvSpPr>
            <p:spPr>
              <a:xfrm>
                <a:off x="4611600" y="4187880"/>
                <a:ext cx="1401480" cy="1407960"/>
              </a:xfrm>
              <a:custGeom>
                <a:avLst/>
                <a:gdLst/>
                <a:ahLst/>
                <a:rect l="l" t="t" r="r" b="b"/>
                <a:pathLst>
                  <a:path w="883" h="887">
                    <a:moveTo>
                      <a:pt x="0" y="0"/>
                    </a:moveTo>
                    <a:lnTo>
                      <a:pt x="0" y="703"/>
                    </a:lnTo>
                    <a:lnTo>
                      <a:pt x="2" y="726"/>
                    </a:lnTo>
                    <a:lnTo>
                      <a:pt x="17" y="751"/>
                    </a:lnTo>
                    <a:lnTo>
                      <a:pt x="43" y="777"/>
                    </a:lnTo>
                    <a:lnTo>
                      <a:pt x="69" y="799"/>
                    </a:lnTo>
                    <a:lnTo>
                      <a:pt x="87" y="811"/>
                    </a:lnTo>
                    <a:lnTo>
                      <a:pt x="123" y="829"/>
                    </a:lnTo>
                    <a:lnTo>
                      <a:pt x="159" y="843"/>
                    </a:lnTo>
                    <a:lnTo>
                      <a:pt x="209" y="861"/>
                    </a:lnTo>
                    <a:lnTo>
                      <a:pt x="259" y="871"/>
                    </a:lnTo>
                    <a:lnTo>
                      <a:pt x="306" y="876"/>
                    </a:lnTo>
                    <a:lnTo>
                      <a:pt x="348" y="882"/>
                    </a:lnTo>
                    <a:lnTo>
                      <a:pt x="388" y="886"/>
                    </a:lnTo>
                    <a:lnTo>
                      <a:pt x="490" y="886"/>
                    </a:lnTo>
                    <a:lnTo>
                      <a:pt x="556" y="880"/>
                    </a:lnTo>
                    <a:lnTo>
                      <a:pt x="614" y="871"/>
                    </a:lnTo>
                    <a:lnTo>
                      <a:pt x="658" y="861"/>
                    </a:lnTo>
                    <a:lnTo>
                      <a:pt x="698" y="849"/>
                    </a:lnTo>
                    <a:lnTo>
                      <a:pt x="739" y="834"/>
                    </a:lnTo>
                    <a:lnTo>
                      <a:pt x="787" y="813"/>
                    </a:lnTo>
                    <a:lnTo>
                      <a:pt x="819" y="793"/>
                    </a:lnTo>
                    <a:lnTo>
                      <a:pt x="845" y="775"/>
                    </a:lnTo>
                    <a:lnTo>
                      <a:pt x="858" y="753"/>
                    </a:lnTo>
                    <a:lnTo>
                      <a:pt x="874" y="734"/>
                    </a:lnTo>
                    <a:lnTo>
                      <a:pt x="879" y="717"/>
                    </a:lnTo>
                    <a:lnTo>
                      <a:pt x="882" y="707"/>
                    </a:lnTo>
                    <a:lnTo>
                      <a:pt x="882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23238d"/>
                  </a:gs>
                  <a:gs pos="50000">
                    <a:srgbClr val="3333cc"/>
                  </a:gs>
                  <a:gs pos="100000">
                    <a:srgbClr val="2323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11600" y="3990960"/>
                <a:ext cx="1401480" cy="382680"/>
              </a:xfrm>
              <a:prstGeom prst="ellipse">
                <a:avLst/>
              </a:prstGeom>
              <a:gradFill rotWithShape="0">
                <a:gsLst>
                  <a:gs pos="0">
                    <a:srgbClr val="23238d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2855880" y="3687840"/>
              <a:ext cx="9280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2744640" y="2819520"/>
              <a:ext cx="1321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File ser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20960" y="5254560"/>
              <a:ext cx="1050480" cy="45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UN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62320" y="4646520"/>
              <a:ext cx="3130200" cy="306360"/>
            </a:xfrm>
            <a:prstGeom prst="rightArrow">
              <a:avLst>
                <a:gd name="adj1" fmla="val 50000"/>
                <a:gd name="adj2" fmla="val 511011"/>
              </a:avLst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6200000">
              <a:off x="3441240" y="4579560"/>
              <a:ext cx="1654200" cy="345600"/>
            </a:xfrm>
            <a:prstGeom prst="rect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30680" y="4921200"/>
              <a:ext cx="1345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751360" y="2819520"/>
            <a:ext cx="3400920" cy="3604680"/>
            <a:chOff x="5751360" y="2819520"/>
            <a:chExt cx="3400920" cy="3604680"/>
          </a:xfrm>
        </p:grpSpPr>
        <p:grpSp>
          <p:nvGrpSpPr>
            <p:cNvPr id="313" name=""/>
            <p:cNvGrpSpPr/>
            <p:nvPr/>
          </p:nvGrpSpPr>
          <p:grpSpPr>
            <a:xfrm>
              <a:off x="6013080" y="2819520"/>
              <a:ext cx="3139200" cy="3604680"/>
              <a:chOff x="6013080" y="2819520"/>
              <a:chExt cx="3139200" cy="3604680"/>
            </a:xfrm>
          </p:grpSpPr>
          <p:pic>
            <p:nvPicPr>
              <p:cNvPr id="3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89360" y="2878200"/>
                <a:ext cx="730440" cy="74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545160" y="5997600"/>
                <a:ext cx="465120" cy="426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6" name=""/>
              <p:cNvGrpSpPr/>
              <p:nvPr/>
            </p:nvGrpSpPr>
            <p:grpSpPr>
              <a:xfrm>
                <a:off x="6678360" y="4573440"/>
                <a:ext cx="455760" cy="469440"/>
                <a:chOff x="6678360" y="4573440"/>
                <a:chExt cx="455760" cy="469440"/>
              </a:xfrm>
            </p:grpSpPr>
            <p:graphicFrame>
              <p:nvGraphicFramePr>
                <p:cNvPr id="317" name=""/>
                <p:cNvGraphicFramePr/>
                <p:nvPr/>
              </p:nvGraphicFramePr>
              <p:xfrm>
                <a:off x="6775200" y="4573440"/>
                <a:ext cx="358920" cy="469440"/>
              </p:xfrm>
              <a:graphic>
                <a:graphicData uri="http://schemas.openxmlformats.org/presentationml/2006/ole">
                  <p:oleObj r:id="rId4" spid="">
                    <p:embed/>
                    <p:pic>
                      <p:nvPicPr>
                        <p:cNvPr id="318" name="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6775200" y="4573440"/>
                          <a:ext cx="358920" cy="469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19" name=""/>
                <p:cNvSpPr/>
                <p:nvPr/>
              </p:nvSpPr>
              <p:spPr>
                <a:xfrm>
                  <a:off x="6678360" y="4650840"/>
                  <a:ext cx="92160" cy="21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94120" y="3848040"/>
                <a:ext cx="541440" cy="45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 flipV="1">
                <a:off x="6013080" y="3612600"/>
                <a:ext cx="513000" cy="57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32160" y="5432400"/>
                <a:ext cx="550800" cy="56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198920" y="2819520"/>
                <a:ext cx="1713600" cy="88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pplications </a:t>
                </a:r>
                <a:br>
                  <a:rPr sz="20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(Java, CORBA,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L/SQ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70040" y="3927240"/>
                <a:ext cx="2082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Window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140960" y="4565520"/>
                <a:ext cx="1882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Web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rows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092720" y="5965920"/>
                <a:ext cx="1740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E-mai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6022800" y="4146120"/>
                <a:ext cx="541080" cy="42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414920" y="5160960"/>
                <a:ext cx="14331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FT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811560" y="5202000"/>
                <a:ext cx="723960" cy="409680"/>
                <a:chOff x="6811560" y="5202000"/>
                <a:chExt cx="723960" cy="409680"/>
              </a:xfrm>
            </p:grpSpPr>
            <p:sp>
              <p:nvSpPr>
                <p:cNvPr id="330" name=""/>
                <p:cNvSpPr/>
                <p:nvPr/>
              </p:nvSpPr>
              <p:spPr>
                <a:xfrm rot="20040000">
                  <a:off x="6991200" y="5390640"/>
                  <a:ext cx="239760" cy="177480"/>
                </a:xfrm>
                <a:prstGeom prst="rightArrow">
                  <a:avLst>
                    <a:gd name="adj1" fmla="val 75009"/>
                    <a:gd name="adj2" fmla="val 67564"/>
                  </a:avLst>
                </a:prstGeom>
                <a:solidFill>
                  <a:srgbClr val="ffcf0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811560" y="5202000"/>
                  <a:ext cx="723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FT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6222600" y="5127480"/>
                <a:ext cx="608040" cy="29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751360" y="4665600"/>
              <a:ext cx="1054080" cy="215640"/>
            </a:xfrm>
            <a:prstGeom prst="rightArrow">
              <a:avLst>
                <a:gd name="adj1" fmla="val 50000"/>
                <a:gd name="adj2" fmla="val 24443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 Digital Libr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68440" y="2108160"/>
            <a:ext cx="85755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 El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79320" y="1825560"/>
            <a:ext cx="846468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lu di Catat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a saat ini Rp. “0” dari BAPPENAS / IMF / Bank Dun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yarakat yang telah mulai terlib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+ univ &amp; lembaga pendidik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+ perpustaka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rbagai Pesant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000+ user Indonesia di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siatif Grass Root ini terus bergulir &amp; self-fin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porting Tech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Teknolog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l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1905120" y="3124080"/>
            <a:ext cx="5638680" cy="2895840"/>
          </a:xfrm>
          <a:prstGeom prst="wedgeEllipseCallout">
            <a:avLst>
              <a:gd name="adj1" fmla="val -43750"/>
              <a:gd name="adj2" fmla="val -510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kus pada Warung Inter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lajar Lebih Lanjut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dom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i ber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(mailing-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sysop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s sesuai permintaan majordo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si Lainnya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a buku “Teknologi Warung Internet” terbitan PT. Elexmedia Komputi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o Buku Gra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a@elexmedia.co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RNET Menguntungk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mail akses paling menguntungk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al Rp. 50-an ju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aya Operasional Rp. 1-2 juta / bul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mbali kira-kira satu tahun, dengan tingkat occupancy 25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70000" y="2266920"/>
          <a:ext cx="8874000" cy="32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266920"/>
                    <a:ext cx="88740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4495680" y="5105520"/>
            <a:ext cx="4419720" cy="581400"/>
          </a:xfrm>
          <a:prstGeom prst="borderCallout1">
            <a:avLst>
              <a:gd name="adj1" fmla="val 18750"/>
              <a:gd name="adj2" fmla="val -8333"/>
              <a:gd name="adj3" fmla="val -163486"/>
              <a:gd name="adj4" fmla="val -171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95 + Win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sharewar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sekuensi 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kses Web adalah komoditi mahal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kitar Rp. 10.000 / j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lu difikirkan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 juta bangsa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0 juta-an tenaga ker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0% tingkat pendidikan max. SD! jangan bermimpi pakai IT disini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ya 1-2 juta tenaga kerja berpendidikan S1 ke at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Indonesia hanya 250.000 us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FreeWeb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.yahoo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cit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ara MAHAL untuk akses E-mail! (sekitar Rp. 500-1000 / e-mai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 dari ISP (umumnya 1 e-ma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bersama account dari IS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li beberapa account e-mail dari 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ali satu account dengan banyak Full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tu account ke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NPA account di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5-10 menit / har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Rp. 50-200.000 / bul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biaya service ETRN /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1676520"/>
          <a:ext cx="91440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0" y="5587920"/>
            <a:ext cx="4343400" cy="520560"/>
          </a:xfrm>
          <a:prstGeom prst="borderCallout1">
            <a:avLst>
              <a:gd name="adj1" fmla="val 18750"/>
              <a:gd name="adj2" fmla="val -8333"/>
              <a:gd name="adj3" fmla="val -166620"/>
              <a:gd name="adj4" fmla="val -12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95 + MDae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ua Alternati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kenario DomainP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mbatas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cil persentase user IT vs. raky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ngkat pendidikan secara umum sangat rendah – reformasi sistem pendidikan di Indones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yer di Mail Serv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990720"/>
            <a:ext cx="3581280" cy="914400"/>
          </a:xfrm>
          <a:prstGeom prst="wedgeRectCallout">
            <a:avLst>
              <a:gd name="adj1" fmla="val 1509"/>
              <a:gd name="adj2" fmla="val 1081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Forwarding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dari POP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34120" y="990720"/>
            <a:ext cx="3581280" cy="914400"/>
          </a:xfrm>
          <a:prstGeom prst="wedgeRectCallout">
            <a:avLst>
              <a:gd name="adj1" fmla="val 13518"/>
              <a:gd name="adj2" fmla="val 12864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P Mail Server di 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/ Persiapan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762120"/>
            <a:ext cx="3809880" cy="1371600"/>
          </a:xfrm>
          <a:prstGeom prst="wedgeRoundRectCallout">
            <a:avLst>
              <a:gd name="adj1" fmla="val 36208"/>
              <a:gd name="adj2" fmla="val 97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Forw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62520" y="1371600"/>
            <a:ext cx="4114800" cy="3276720"/>
          </a:xfrm>
          <a:prstGeom prst="rightArrow">
            <a:avLst>
              <a:gd name="adj1" fmla="val 50000"/>
              <a:gd name="adj2" fmla="val 3139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main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e-mail ad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l Server Dial I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3214800">
            <a:off x="3428640" y="2971440"/>
            <a:ext cx="5181480" cy="2590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PMail Server kirim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 rot="2715600">
            <a:off x="3270240" y="2162160"/>
            <a:ext cx="5486400" cy="3085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P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Mengambil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Mengambil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1828800"/>
            <a:ext cx="5715000" cy="2514600"/>
          </a:xfrm>
          <a:prstGeom prst="wedgeRoundRectCallout">
            <a:avLst>
              <a:gd name="adj1" fmla="val -43444"/>
              <a:gd name="adj2" fmla="val 893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b / Internet Expl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Teleph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Teleph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2" name="ipfax_white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PhoneJ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2836800" y="-428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36800" y="-428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ipj_sidelrg" descr="Now $149.95 with Manufacturer's Mail-in Rebate"/>
          <p:cNvPicPr/>
          <p:nvPr/>
        </p:nvPicPr>
        <p:blipFill>
          <a:blip r:embed="rId1"/>
          <a:stretch/>
        </p:blipFill>
        <p:spPr>
          <a:xfrm>
            <a:off x="1981080" y="1808280"/>
            <a:ext cx="716292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iceTronix (8 por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8" name="vpb8L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-Dagang untuk Raky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0" name="ip5_dialer" descr=""/>
          <p:cNvPicPr/>
          <p:nvPr/>
        </p:nvPicPr>
        <p:blipFill>
          <a:blip r:embed="rId1"/>
          <a:stretch/>
        </p:blipFill>
        <p:spPr>
          <a:xfrm>
            <a:off x="6006960" y="0"/>
            <a:ext cx="31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deo Confer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2" name="ip5_scrnphone" descr=""/>
          <p:cNvPicPr/>
          <p:nvPr/>
        </p:nvPicPr>
        <p:blipFill>
          <a:blip r:embed="rId1"/>
          <a:stretch/>
        </p:blipFill>
        <p:spPr>
          <a:xfrm>
            <a:off x="5857920" y="0"/>
            <a:ext cx="328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untungan Vo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stasi WARNET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st Card DSP ~US$150 / ka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si ke US biaya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$0.13 + Rp. 75 + Rp. 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si ke US biaya SLI 0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p. 8300 / me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e-Daga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-mail cukup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petitiv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knologi Penduk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ung Intern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Telepho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guntungkan &amp; Mudah Balik Modal (kurang dari satu tahun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5T02:13:50Z</dcterms:created>
  <dc:creator>Onno W. Purbo</dc:creator>
  <dc:description/>
  <dc:language>en-US</dc:language>
  <cp:lastModifiedBy>Onno W. Purbo</cp:lastModifiedBy>
  <dcterms:modified xsi:type="dcterms:W3CDTF">1999-10-16T01:53:30Z</dcterms:modified>
  <cp:revision>48</cp:revision>
  <dc:subject/>
  <dc:title>Alternatif Infrastruktur Informasi Untuk Bangsa</dc:title>
</cp:coreProperties>
</file>