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21.wmf" ContentType="image/x-wmf"/>
  <Override PartName="/ppt/media/image5.png" ContentType="image/png"/>
  <Override PartName="/ppt/media/image20.wmf" ContentType="image/x-wmf"/>
  <Override PartName="/ppt/media/image4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5BC2E-B4D1-4C68-9A27-EE73D9610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B459C-6B85-4654-B7F5-14172F3C2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10E5B-9DA9-4EBF-B5A4-BC0F3986F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7614A-B052-49BB-9F75-D1D867A94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73E55-B80D-4BFF-A8B9-6D1D89D17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1B469-B7BF-47E4-8D19-FC534D1AB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9D544-3FCB-49DF-AA35-62C90DA98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1CF66-BF70-4CED-A294-993FC1568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17A9B-DBE7-4AB9-BC67-EAA1DDF41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AC9EA-B312-40D0-94B1-60215BC0D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B5662-F183-440E-9C2A-55E6E00E7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35AF7-2BB2-4A22-A14F-0E1702994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3A275-7BE1-4E70-B44E-7806679AF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22214-4E4A-49E7-82CE-FCB95EEF2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DCC4A-EBC5-4029-AAB4-FC6D53FF8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FF5B6-0538-4086-B85A-B0C223D87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E10C2-195B-4685-B73B-119F9CF2E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42FC7-7FAC-4DF2-B0B6-37FFF2002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C3FD9-126E-453F-B1DF-5CEB2D125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5503C-B253-4584-868F-9FF17DD22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F3F5A-92AC-426F-86DB-F274E91B8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262EF-359A-4068-B4A6-EBC72FF66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7C328-2254-444F-B2B3-BC1697748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A2289-B648-47D0-AFB7-ECA083BCB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B84D2-EBC5-4600-B187-03A4C8BCA8EA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pic>
          <p:nvPicPr>
            <p:cNvPr id="48" name="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330F0-8025-4345-A870-CF7869009596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ismail@itb.ac.id" TargetMode="External"/><Relationship Id="rId2" Type="http://schemas.openxmlformats.org/officeDocument/2006/relationships/hyperlink" Target="mailto:ismail@itb.ac.id" TargetMode="Externa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egroups.com/" TargetMode="External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mailto:kmrg@kmrg.lib.itb.ac.id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digital.lib.itb.ac.id/" TargetMode="External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idln.itb.ac.id/" TargetMode="External"/><Relationship Id="rId2" Type="http://schemas.openxmlformats.org/officeDocument/2006/relationships/hyperlink" Target="mailto:idln-announcement-subscribe@idln.itb.ac.id" TargetMode="External"/><Relationship Id="rId3" Type="http://schemas.openxmlformats.org/officeDocument/2006/relationships/hyperlink" Target="mailto:idln-announcement-subscribe@idln.itb.ac.id" TargetMode="External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mailto:ismail@itb.ac.id" TargetMode="External"/><Relationship Id="rId2" Type="http://schemas.openxmlformats.org/officeDocument/2006/relationships/hyperlink" Target="http://netmon.itb.ac.id/~ismail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idecisionmaker.com/" TargetMode="External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Internet Untuk Public Relati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911240" y="3968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Ismail Fahmi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Email: </a:t>
            </a:r>
            <a:r>
              <a:rPr b="0" lang="en-US" sz="2400" spc="-1" strike="noStrike" u="sng">
                <a:solidFill>
                  <a:srgbClr val="ff33cc"/>
                </a:solidFill>
                <a:uFillTx/>
                <a:latin typeface="Times New Roman"/>
                <a:hlinkClick r:id="rId1"/>
              </a:rPr>
              <a:t>ismail</a:t>
            </a:r>
            <a:r>
              <a:rPr b="0" lang="en-US" sz="2400" spc="-1" strike="noStrike" u="sng">
                <a:solidFill>
                  <a:srgbClr val="ff33cc"/>
                </a:solidFill>
                <a:uFillTx/>
                <a:latin typeface="Times New Roman"/>
                <a:hlinkClick r:id="rId2"/>
              </a:rPr>
              <a:t>@itb.ac.id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Knowledge Management Research Group ITB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Ilma Dinamika - Sheraton, 18 Oktober 2000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92" name="kmrg-logo-web01" descr=""/>
          <p:cNvPicPr/>
          <p:nvPr/>
        </p:nvPicPr>
        <p:blipFill>
          <a:blip r:embed="rId3"/>
          <a:stretch/>
        </p:blipFill>
        <p:spPr>
          <a:xfrm>
            <a:off x="609480" y="5334120"/>
            <a:ext cx="868320" cy="101736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ontoh: Ms Outlook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ampilan depa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371600" y="1219320"/>
            <a:ext cx="7467480" cy="53100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1828800" y="3429000"/>
            <a:ext cx="1219320" cy="2743200"/>
          </a:xfrm>
          <a:prstGeom prst="rect">
            <a:avLst/>
          </a:prstGeom>
          <a:noFill/>
          <a:ln cap="sq"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76720" y="2590920"/>
            <a:ext cx="5333760" cy="914400"/>
          </a:xfrm>
          <a:prstGeom prst="rect">
            <a:avLst/>
          </a:prstGeom>
          <a:noFill/>
          <a:ln cap="sq"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76720" y="3962520"/>
            <a:ext cx="5333760" cy="2361960"/>
          </a:xfrm>
          <a:prstGeom prst="rect">
            <a:avLst/>
          </a:prstGeom>
          <a:noFill/>
          <a:ln cap="sq"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52480" y="2819520"/>
            <a:ext cx="762120" cy="228600"/>
          </a:xfrm>
          <a:prstGeom prst="rect">
            <a:avLst/>
          </a:prstGeom>
          <a:noFill/>
          <a:ln cap="sq"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70040" y="2286000"/>
            <a:ext cx="1482120" cy="520560"/>
          </a:xfrm>
          <a:prstGeom prst="rect">
            <a:avLst/>
          </a:prstGeom>
          <a:solidFill>
            <a:srgbClr val="eaeaea"/>
          </a:solidFill>
          <a:ln cap="sq"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b5b"/>
                </a:solidFill>
                <a:latin typeface="Times New Roman"/>
              </a:rPr>
              <a:t>Kalenda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69680" y="4114800"/>
            <a:ext cx="1110240" cy="520560"/>
          </a:xfrm>
          <a:prstGeom prst="rect">
            <a:avLst/>
          </a:prstGeom>
          <a:solidFill>
            <a:srgbClr val="eaeaea"/>
          </a:solidFill>
          <a:ln cap="sq"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b5b"/>
                </a:solidFill>
                <a:latin typeface="Times New Roman"/>
              </a:rPr>
              <a:t>Fold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952600" y="2133720"/>
            <a:ext cx="2140560" cy="520560"/>
          </a:xfrm>
          <a:prstGeom prst="rect">
            <a:avLst/>
          </a:prstGeom>
          <a:solidFill>
            <a:srgbClr val="eaeaea"/>
          </a:solidFill>
          <a:ln cap="sq"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b5b"/>
                </a:solidFill>
                <a:latin typeface="Times New Roman"/>
              </a:rPr>
              <a:t>Header Emai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093800" y="3581280"/>
            <a:ext cx="1317600" cy="520560"/>
          </a:xfrm>
          <a:prstGeom prst="rect">
            <a:avLst/>
          </a:prstGeom>
          <a:solidFill>
            <a:srgbClr val="eaeaea"/>
          </a:solidFill>
          <a:ln cap="sq"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b5b"/>
                </a:solidFill>
                <a:latin typeface="Times New Roman"/>
              </a:rPr>
              <a:t>Isi sura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371600" y="1600200"/>
            <a:ext cx="762120" cy="304920"/>
          </a:xfrm>
          <a:prstGeom prst="ellipse">
            <a:avLst/>
          </a:prstGeom>
          <a:noFill/>
          <a:ln cap="sq"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819520" y="1600200"/>
            <a:ext cx="1752480" cy="228600"/>
          </a:xfrm>
          <a:prstGeom prst="rect">
            <a:avLst/>
          </a:prstGeom>
          <a:noFill/>
          <a:ln cap="sq" w="284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429000" y="1828800"/>
            <a:ext cx="304920" cy="304920"/>
          </a:xfrm>
          <a:prstGeom prst="ellipse">
            <a:avLst/>
          </a:prstGeom>
          <a:noFill/>
          <a:ln cap="sq" w="284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65120" y="1523880"/>
            <a:ext cx="871200" cy="520560"/>
          </a:xfrm>
          <a:prstGeom prst="rect">
            <a:avLst/>
          </a:prstGeom>
          <a:solidFill>
            <a:srgbClr val="eaeaea"/>
          </a:solidFill>
          <a:ln cap="sq"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b5b"/>
                </a:solidFill>
                <a:latin typeface="Times New Roman"/>
              </a:rPr>
              <a:t>Bar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817080" y="1066680"/>
            <a:ext cx="2242800" cy="520560"/>
          </a:xfrm>
          <a:prstGeom prst="rect">
            <a:avLst/>
          </a:prstGeom>
          <a:solidFill>
            <a:srgbClr val="eaeaea"/>
          </a:solidFill>
          <a:ln cap="sq"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b5b"/>
                </a:solidFill>
                <a:latin typeface="Times New Roman"/>
              </a:rPr>
              <a:t>Beri Respons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741120" y="1905120"/>
            <a:ext cx="2124000" cy="520560"/>
          </a:xfrm>
          <a:prstGeom prst="rect">
            <a:avLst/>
          </a:prstGeom>
          <a:solidFill>
            <a:srgbClr val="eaeaea"/>
          </a:solidFill>
          <a:ln cap="sq"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b5b"/>
                </a:solidFill>
                <a:latin typeface="Times New Roman"/>
              </a:rPr>
              <a:t>Rules Wizar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et untuk P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166F1-D87A-4336-A1B7-3D124E8DA12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Mengatur Folder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urat-surat masuk dikelompokkan berdasarkan topik/pengirim/group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Rules Wizard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191120" y="2666880"/>
            <a:ext cx="3905280" cy="390528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4267080" y="2895480"/>
            <a:ext cx="1828800" cy="1600200"/>
          </a:xfrm>
          <a:prstGeom prst="rect">
            <a:avLst/>
          </a:prstGeom>
          <a:noFill/>
          <a:ln cap="sq"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191120" y="4800600"/>
            <a:ext cx="2895480" cy="838080"/>
          </a:xfrm>
          <a:prstGeom prst="rect">
            <a:avLst/>
          </a:prstGeom>
          <a:noFill/>
          <a:ln cap="sq"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31640" y="3429000"/>
            <a:ext cx="1110240" cy="520560"/>
          </a:xfrm>
          <a:prstGeom prst="rect">
            <a:avLst/>
          </a:prstGeom>
          <a:solidFill>
            <a:srgbClr val="eaeaea"/>
          </a:solidFill>
          <a:ln cap="sq"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b5b"/>
                </a:solidFill>
                <a:latin typeface="Times New Roman"/>
              </a:rPr>
              <a:t>Fold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056040" y="5029200"/>
            <a:ext cx="1168200" cy="520560"/>
          </a:xfrm>
          <a:prstGeom prst="rect">
            <a:avLst/>
          </a:prstGeom>
          <a:solidFill>
            <a:srgbClr val="eaeaea"/>
          </a:solidFill>
          <a:ln cap="sq"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b5b"/>
                </a:solidFill>
                <a:latin typeface="Times New Roman"/>
              </a:rPr>
              <a:t>Atura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et untuk P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5DFEF-9CD8-4915-B604-AC22E3CB252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ignatur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oter, identitas pengirim, organisasi, alamat kontak …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dvertising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24757" t="58197" r="0" b="0"/>
          <a:stretch/>
        </p:blipFill>
        <p:spPr>
          <a:xfrm>
            <a:off x="2895480" y="3733920"/>
            <a:ext cx="5905800" cy="233352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2819520" y="4800600"/>
            <a:ext cx="5410080" cy="838080"/>
          </a:xfrm>
          <a:prstGeom prst="rect">
            <a:avLst/>
          </a:prstGeom>
          <a:noFill/>
          <a:ln cap="sq"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302480" y="4876920"/>
            <a:ext cx="1544760" cy="520560"/>
          </a:xfrm>
          <a:prstGeom prst="rect">
            <a:avLst/>
          </a:prstGeom>
          <a:solidFill>
            <a:srgbClr val="eaeaea"/>
          </a:solidFill>
          <a:ln cap="sq"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b5b"/>
                </a:solidFill>
                <a:latin typeface="Times New Roman"/>
              </a:rPr>
              <a:t>Signatur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et untuk P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BF7C5-7F45-4817-8943-38F4E40D8D2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ignature … (2)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380880" y="1447920"/>
            <a:ext cx="3179880" cy="33526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3657600" y="1447920"/>
            <a:ext cx="2819520" cy="278424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4724280" y="2590920"/>
            <a:ext cx="4057920" cy="364788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 rot="18636000">
            <a:off x="2743200" y="3079800"/>
            <a:ext cx="2362320" cy="304560"/>
          </a:xfrm>
          <a:prstGeom prst="rightArrow">
            <a:avLst>
              <a:gd name="adj1" fmla="val 50000"/>
              <a:gd name="adj2" fmla="val 193913"/>
            </a:avLst>
          </a:prstGeom>
          <a:solidFill>
            <a:srgbClr val="eeb00b"/>
          </a:solidFill>
          <a:ln cap="sq"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019920" y="1981080"/>
            <a:ext cx="304560" cy="990720"/>
          </a:xfrm>
          <a:prstGeom prst="downArrow">
            <a:avLst>
              <a:gd name="adj1" fmla="val 50000"/>
              <a:gd name="adj2" fmla="val 81324"/>
            </a:avLst>
          </a:prstGeom>
          <a:solidFill>
            <a:srgbClr val="eeb00b"/>
          </a:solidFill>
          <a:ln cap="sq"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et untuk P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33E50-6076-41FF-BFB1-294A8240A7A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Kirim File (Attachment)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43000" y="1523880"/>
            <a:ext cx="6858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aperless offic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aperless communicatio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2971800" y="2590920"/>
            <a:ext cx="5600880" cy="394308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5029200" y="2971800"/>
            <a:ext cx="380880" cy="380880"/>
          </a:xfrm>
          <a:prstGeom prst="ellipse">
            <a:avLst/>
          </a:prstGeom>
          <a:noFill/>
          <a:ln cap="sq" w="284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895480" y="4648320"/>
            <a:ext cx="5257800" cy="761760"/>
          </a:xfrm>
          <a:prstGeom prst="rect">
            <a:avLst/>
          </a:prstGeom>
          <a:noFill/>
          <a:ln cap="sq"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378440" y="4876920"/>
            <a:ext cx="1544760" cy="520560"/>
          </a:xfrm>
          <a:prstGeom prst="rect">
            <a:avLst/>
          </a:prstGeom>
          <a:solidFill>
            <a:srgbClr val="eaeaea"/>
          </a:solidFill>
          <a:ln cap="sq"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b5b"/>
                </a:solidFill>
                <a:latin typeface="Times New Roman"/>
              </a:rPr>
              <a:t>Signatur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112720" y="2438280"/>
            <a:ext cx="1553760" cy="520560"/>
          </a:xfrm>
          <a:prstGeom prst="rect">
            <a:avLst/>
          </a:prstGeom>
          <a:solidFill>
            <a:srgbClr val="eaeaea"/>
          </a:solidFill>
          <a:ln cap="sq"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b5b"/>
                </a:solidFill>
                <a:latin typeface="Times New Roman"/>
              </a:rPr>
              <a:t>Insert fi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971800" y="5638680"/>
            <a:ext cx="838080" cy="838440"/>
          </a:xfrm>
          <a:prstGeom prst="rect">
            <a:avLst/>
          </a:prstGeom>
          <a:noFill/>
          <a:ln cap="sq"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816360" y="5867280"/>
            <a:ext cx="3409920" cy="520560"/>
          </a:xfrm>
          <a:prstGeom prst="rect">
            <a:avLst/>
          </a:prstGeom>
          <a:solidFill>
            <a:srgbClr val="eaeaea"/>
          </a:solidFill>
          <a:ln cap="sq"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b5b"/>
                </a:solidFill>
                <a:latin typeface="Times New Roman"/>
              </a:rPr>
              <a:t>File yang akan dikirim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et untuk P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D3AA7-7261-450A-995E-CEE5A7B5979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esan Error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522800" y="1525680"/>
            <a:ext cx="5301360" cy="2770920"/>
          </a:xfrm>
          <a:prstGeom prst="rect">
            <a:avLst/>
          </a:prstGeom>
          <a:noFill/>
          <a:ln cap="sq"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Courier New"/>
              </a:rPr>
              <a:t>From: Mail Delivery Subsystem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Courier New"/>
              </a:rPr>
              <a:t>Date: Sat, 25 May 91 16:45:14 -0400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Courier New"/>
              </a:rPr>
              <a:t>To: mg@gracie.com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Courier New"/>
              </a:rPr>
              <a:t>Cc: Postmaster@cs.widener.edu Subject: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Courier New"/>
              </a:rPr>
              <a:t>Returned mail: User unknown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Courier New"/>
              </a:rPr>
              <a:t>----- Transcript of session follows -----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Courier New"/>
              </a:rPr>
              <a:t>While talking to cs.widener.edu: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Courier New"/>
              </a:rPr>
              <a:t>&gt;&gt;&gt; RCPT To: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Courier New"/>
              </a:rPr>
              <a:t>&lt;&lt;&lt; 550 ... User unknown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Courier New"/>
              </a:rPr>
              <a:t>550 lsimpson... User unknown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895480" y="3352680"/>
            <a:ext cx="2362320" cy="990720"/>
          </a:xfrm>
          <a:prstGeom prst="rect">
            <a:avLst/>
          </a:prstGeom>
          <a:noFill/>
          <a:ln cap="sq"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206160" y="4267080"/>
            <a:ext cx="5628960" cy="947160"/>
          </a:xfrm>
          <a:prstGeom prst="rect">
            <a:avLst/>
          </a:prstGeom>
          <a:solidFill>
            <a:srgbClr val="eaeaea"/>
          </a:solidFill>
          <a:ln cap="sq"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b5b"/>
                </a:solidFill>
                <a:latin typeface="Times New Roman"/>
              </a:rPr>
              <a:t>Pesan error dapat diketahui dari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b5b"/>
                </a:solidFill>
                <a:latin typeface="Times New Roman"/>
              </a:rPr>
              <a:t>Email yang dikembalikan ke pengirim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et untuk P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E736B-B054-481E-878D-76D2EECE339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Kalendar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1295280" y="1295280"/>
            <a:ext cx="7467840" cy="531036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1676520" y="2895480"/>
            <a:ext cx="685800" cy="228600"/>
          </a:xfrm>
          <a:prstGeom prst="rect">
            <a:avLst/>
          </a:prstGeom>
          <a:noFill/>
          <a:ln cap="sq"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4191120" y="228600"/>
            <a:ext cx="4572000" cy="274320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5953320" y="1219320"/>
            <a:ext cx="2547360" cy="520560"/>
          </a:xfrm>
          <a:prstGeom prst="rect">
            <a:avLst/>
          </a:prstGeom>
          <a:solidFill>
            <a:srgbClr val="eaeaea"/>
          </a:solidFill>
          <a:ln cap="sq"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b5b"/>
                </a:solidFill>
                <a:latin typeface="Times New Roman"/>
              </a:rPr>
              <a:t>Save sbg HTM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et untuk P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D4CAC-1FB0-4775-BED0-B28EFBDED3A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Mailing Lis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Mailing list: sebuah alamat email yang mendistribusikan setiap pesan ke seluruh anggotanya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Membuat mailing list sendiri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33cc"/>
                </a:solidFill>
                <a:uFillTx/>
                <a:latin typeface="Times New Roman"/>
                <a:hlinkClick r:id="rId1"/>
              </a:rPr>
              <a:t>www.egroups.com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et untuk P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6DE53-36EB-497C-BF07-4969421DC99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Mailing List… (2)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Misal: </a:t>
            </a:r>
            <a:r>
              <a:rPr b="0" lang="en-US" sz="2800" spc="-1" strike="noStrike" u="sng">
                <a:solidFill>
                  <a:srgbClr val="ff33cc"/>
                </a:solidFill>
                <a:uFillTx/>
                <a:latin typeface="Courier New"/>
                <a:hlinkClick r:id="rId1"/>
              </a:rPr>
              <a:t>kmrg@kmrg.lib.itb.ac.id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Subscribe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: mendaftar sebagai anggota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iasanya ditambah sufix tertentu misal: </a:t>
            </a:r>
            <a:r>
              <a:rPr b="1" lang="en-US" sz="2400" spc="-1" strike="noStrike">
                <a:solidFill>
                  <a:srgbClr val="eaeaea"/>
                </a:solidFill>
                <a:latin typeface="Courier New"/>
              </a:rPr>
              <a:t>-subscribe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Contoh kirim email kosong ke: </a:t>
            </a:r>
            <a:br>
              <a:rPr sz="2400"/>
            </a:br>
            <a:r>
              <a:rPr b="1" lang="en-US" sz="2400" spc="-1" strike="noStrike">
                <a:solidFill>
                  <a:srgbClr val="eaeaea"/>
                </a:solidFill>
                <a:latin typeface="Courier New"/>
              </a:rPr>
              <a:t>kmrg-subscribe@kmrg.lib.itb.ac.id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Unsubscribe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: keluar dari keanggotaan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iasanya ditambah sufix: </a:t>
            </a:r>
            <a:r>
              <a:rPr b="1" lang="en-US" sz="2400" spc="-1" strike="noStrike">
                <a:solidFill>
                  <a:srgbClr val="eaeaea"/>
                </a:solidFill>
                <a:latin typeface="Courier New"/>
              </a:rPr>
              <a:t>-unsubscrib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Contoh kirim email kosong ke:</a:t>
            </a:r>
            <a:br>
              <a:rPr sz="2400"/>
            </a:b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eaeaea"/>
                </a:solidFill>
                <a:latin typeface="Courier New"/>
              </a:rPr>
              <a:t>kmrg-unsubscribe@kmrg.lib.itb.ac.id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et untuk P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2B76D-B640-43B5-AB62-5991BD19C52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Netiquett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Netiquette : etika di Internet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Netiquette semakin diperlukan ketika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Mengirim email ke distribution list,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Usenet, atau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hatting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ontoh netiquette yang buruk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pamming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Flamming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et untuk P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A5A50-1CAD-498F-862E-0A34B1ED01B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Agenda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-Public Relatio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Mengapa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Bagaimana sampai ke sana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Digital Librar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et untuk P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AA1DC-5F9A-4F33-BEDB-2334AA53FE6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Netiquette … (2)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pamming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Mengirim </a:t>
            </a:r>
            <a:r>
              <a:rPr b="0" i="1" lang="en-US" sz="2400" spc="-1" strike="noStrike">
                <a:solidFill>
                  <a:srgbClr val="eaeaea"/>
                </a:solidFill>
                <a:latin typeface="Times New Roman"/>
              </a:rPr>
              <a:t>unsolicited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email di Internet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Ada perusahaan yang khusus mengumpulkan alamat email untuk </a:t>
            </a:r>
            <a:r>
              <a:rPr b="0" i="1" lang="en-US" sz="2400" spc="-1" strike="noStrike">
                <a:solidFill>
                  <a:srgbClr val="eaeaea"/>
                </a:solidFill>
                <a:latin typeface="Times New Roman"/>
              </a:rPr>
              <a:t>dispam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Orang spamming misal ingin beriklan, promosi produk, dll…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Flamming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Memaki seseorang di forum umum (mailing list)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Flamming biasanya ditujukan pada ORANG (subjektif) bukan pada INFORMASI (objektif) yang sedang dibahas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et untuk P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4BB80-B8CA-4DA6-BE35-339DA080A57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Newsletter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3719520" y="1295280"/>
            <a:ext cx="5157720" cy="533412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1067760" y="1828800"/>
            <a:ext cx="26679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Dikirim hanya k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ubscrib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Bagus untuk </a:t>
            </a:r>
            <a:br>
              <a:rPr sz="2800"/>
            </a:b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menyebarkan</a:t>
            </a:r>
            <a:br>
              <a:rPr sz="2800"/>
            </a:b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nformasi</a:t>
            </a:r>
            <a:br>
              <a:rPr sz="2800"/>
            </a:b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erbaru </a:t>
            </a:r>
            <a:br>
              <a:rPr sz="2800"/>
            </a:b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organisasi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607760" y="6019920"/>
            <a:ext cx="2183400" cy="520560"/>
          </a:xfrm>
          <a:prstGeom prst="rect">
            <a:avLst/>
          </a:prstGeom>
          <a:solidFill>
            <a:srgbClr val="eaeaea"/>
          </a:solidFill>
          <a:ln cap="sq"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b5b"/>
                </a:solidFill>
                <a:latin typeface="Times New Roman"/>
              </a:rPr>
              <a:t>Berbasis Tek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et untuk P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0FCFA-1495-49E5-8681-C3E74037FCA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WWW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1981080" y="1523880"/>
            <a:ext cx="6039000" cy="469584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5943600" y="2590920"/>
            <a:ext cx="1295280" cy="380880"/>
          </a:xfrm>
          <a:prstGeom prst="rect">
            <a:avLst/>
          </a:prstGeom>
          <a:noFill/>
          <a:ln cap="sq"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057400" y="4572000"/>
            <a:ext cx="1600200" cy="990720"/>
          </a:xfrm>
          <a:prstGeom prst="rect">
            <a:avLst/>
          </a:prstGeom>
          <a:noFill/>
          <a:ln cap="sq"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315200" y="2590920"/>
            <a:ext cx="457200" cy="380880"/>
          </a:xfrm>
          <a:prstGeom prst="rect">
            <a:avLst/>
          </a:prstGeom>
          <a:noFill/>
          <a:ln cap="sq"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274640" y="2133720"/>
            <a:ext cx="1988280" cy="520560"/>
          </a:xfrm>
          <a:prstGeom prst="rect">
            <a:avLst/>
          </a:prstGeom>
          <a:solidFill>
            <a:srgbClr val="eaeaea"/>
          </a:solidFill>
          <a:ln cap="sq"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b5b"/>
                </a:solidFill>
                <a:latin typeface="Times New Roman"/>
              </a:rPr>
              <a:t>Order onlin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22760" y="2057400"/>
            <a:ext cx="1611720" cy="520560"/>
          </a:xfrm>
          <a:prstGeom prst="rect">
            <a:avLst/>
          </a:prstGeom>
          <a:solidFill>
            <a:srgbClr val="eaeaea"/>
          </a:solidFill>
          <a:ln cap="sq"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b5b"/>
                </a:solidFill>
                <a:latin typeface="Times New Roman"/>
              </a:rPr>
              <a:t>Help desk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303200" y="4038480"/>
            <a:ext cx="1742760" cy="520560"/>
          </a:xfrm>
          <a:prstGeom prst="rect">
            <a:avLst/>
          </a:prstGeom>
          <a:solidFill>
            <a:srgbClr val="eaeaea"/>
          </a:solidFill>
          <a:ln cap="sq"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b5b"/>
                </a:solidFill>
                <a:latin typeface="Times New Roman"/>
              </a:rPr>
              <a:t>Showroom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809880" y="3962520"/>
            <a:ext cx="2210040" cy="1371600"/>
          </a:xfrm>
          <a:prstGeom prst="rect">
            <a:avLst/>
          </a:prstGeom>
          <a:noFill/>
          <a:ln cap="sq"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504680" y="3429000"/>
            <a:ext cx="988560" cy="520560"/>
          </a:xfrm>
          <a:prstGeom prst="rect">
            <a:avLst/>
          </a:prstGeom>
          <a:solidFill>
            <a:srgbClr val="eaeaea"/>
          </a:solidFill>
          <a:ln cap="sq"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b5b"/>
                </a:solidFill>
                <a:latin typeface="Times New Roman"/>
              </a:rPr>
              <a:t>New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et untuk P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1B5C2-C8EA-4C02-9548-4111FA97119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Digital Librar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Mengelola arsip-arsip secara digital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Keuntungan: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Hemat tempa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Mudah dan cepat ditemukan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Mudah diorganisasikan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Dapat diakses secara onlin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angat membantu kinerja organisasi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Untuk berbagai format arsip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Format arsip: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ull teks, source cod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Image, gambar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Multimedia (audio, video)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Dl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et untuk P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0B146-8C44-4639-BC96-BCA07C0E1C9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ontoh: </a:t>
            </a:r>
            <a:r>
              <a:rPr b="0" lang="en-US" sz="4400" spc="-1" strike="noStrike" u="sng">
                <a:solidFill>
                  <a:srgbClr val="ff33cc"/>
                </a:solidFill>
                <a:uFillTx/>
                <a:latin typeface="Times New Roman"/>
                <a:hlinkClick r:id="rId1"/>
              </a:rPr>
              <a:t>http://digital.lib.itb.ac.id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 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2590920" y="1447920"/>
            <a:ext cx="6105240" cy="516564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2743200" y="3809880"/>
            <a:ext cx="3733920" cy="1067040"/>
          </a:xfrm>
          <a:prstGeom prst="rect">
            <a:avLst/>
          </a:prstGeom>
          <a:noFill/>
          <a:ln cap="sq"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43200" y="4952880"/>
            <a:ext cx="1905120" cy="1524240"/>
          </a:xfrm>
          <a:prstGeom prst="rect">
            <a:avLst/>
          </a:prstGeom>
          <a:noFill/>
          <a:ln cap="sq"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978280" y="3352680"/>
            <a:ext cx="3733200" cy="520560"/>
          </a:xfrm>
          <a:prstGeom prst="rect">
            <a:avLst/>
          </a:prstGeom>
          <a:solidFill>
            <a:srgbClr val="eaeaea"/>
          </a:solidFill>
          <a:ln cap="sq"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b5b"/>
                </a:solidFill>
                <a:latin typeface="Times New Roman"/>
              </a:rPr>
              <a:t>Berbagai tipe knowledg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761480" y="5334120"/>
            <a:ext cx="988560" cy="520560"/>
          </a:xfrm>
          <a:prstGeom prst="rect">
            <a:avLst/>
          </a:prstGeom>
          <a:solidFill>
            <a:srgbClr val="eaeaea"/>
          </a:solidFill>
          <a:ln cap="sq"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b5b"/>
                </a:solidFill>
                <a:latin typeface="Times New Roman"/>
              </a:rPr>
              <a:t>New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et untuk P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19CBA-68E8-4043-B1C0-7A489E199D6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Mudahnya akses arsip digital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2665440" y="1371600"/>
            <a:ext cx="4973760" cy="536724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4800600" y="3048120"/>
            <a:ext cx="3676680" cy="309564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3"/>
          <a:srcRect l="0" t="27931" r="29011" b="7700"/>
          <a:stretch/>
        </p:blipFill>
        <p:spPr>
          <a:xfrm>
            <a:off x="228600" y="2743200"/>
            <a:ext cx="3048120" cy="175248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228600" y="3657600"/>
            <a:ext cx="2286000" cy="304920"/>
          </a:xfrm>
          <a:prstGeom prst="rect">
            <a:avLst/>
          </a:prstGeom>
          <a:noFill/>
          <a:ln cap="sq"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505320" y="2286000"/>
            <a:ext cx="3124080" cy="380880"/>
          </a:xfrm>
          <a:prstGeom prst="rect">
            <a:avLst/>
          </a:prstGeom>
          <a:noFill/>
          <a:ln cap="sq"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996840" y="3124080"/>
            <a:ext cx="1733760" cy="520560"/>
          </a:xfrm>
          <a:prstGeom prst="rect">
            <a:avLst/>
          </a:prstGeom>
          <a:solidFill>
            <a:srgbClr val="eaeaea"/>
          </a:solidFill>
          <a:ln cap="sq"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b5b"/>
                </a:solidFill>
                <a:latin typeface="Times New Roman"/>
              </a:rPr>
              <a:t>Judul arsi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731480" y="1752480"/>
            <a:ext cx="2204640" cy="520560"/>
          </a:xfrm>
          <a:prstGeom prst="rect">
            <a:avLst/>
          </a:prstGeom>
          <a:solidFill>
            <a:srgbClr val="eaeaea"/>
          </a:solidFill>
          <a:ln cap="sq"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b5b"/>
                </a:solidFill>
                <a:latin typeface="Times New Roman"/>
              </a:rPr>
              <a:t>Kategori arsi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962520" y="6095880"/>
            <a:ext cx="2133360" cy="457200"/>
          </a:xfrm>
          <a:prstGeom prst="rect">
            <a:avLst/>
          </a:prstGeom>
          <a:noFill/>
          <a:ln cap="sq"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911600" y="5334120"/>
            <a:ext cx="2135880" cy="947160"/>
          </a:xfrm>
          <a:prstGeom prst="rect">
            <a:avLst/>
          </a:prstGeom>
          <a:solidFill>
            <a:srgbClr val="eaeaea"/>
          </a:solidFill>
          <a:ln cap="sq"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b5b"/>
                </a:solidFill>
                <a:latin typeface="Times New Roman"/>
              </a:rPr>
              <a:t>Download/</a:t>
            </a:r>
            <a:br>
              <a:rPr sz="2800"/>
            </a:br>
            <a:r>
              <a:rPr b="0" lang="en-US" sz="2800" spc="-1" strike="noStrike">
                <a:solidFill>
                  <a:srgbClr val="200b5b"/>
                </a:solidFill>
                <a:latin typeface="Times New Roman"/>
              </a:rPr>
              <a:t>play file arsi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892680" y="4191120"/>
            <a:ext cx="2817360" cy="1373760"/>
          </a:xfrm>
          <a:prstGeom prst="rect">
            <a:avLst/>
          </a:prstGeom>
          <a:solidFill>
            <a:srgbClr val="eaeaea"/>
          </a:solidFill>
          <a:ln cap="sq"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b5b"/>
                </a:solidFill>
                <a:latin typeface="Times New Roman"/>
              </a:rPr>
              <a:t>Real Player</a:t>
            </a:r>
            <a:br>
              <a:rPr sz="2800"/>
            </a:br>
            <a:r>
              <a:rPr b="0" lang="en-US" sz="2800" spc="-1" strike="noStrike">
                <a:solidFill>
                  <a:srgbClr val="200b5b"/>
                </a:solidFill>
                <a:latin typeface="Times New Roman"/>
              </a:rPr>
              <a:t>utk mendengarkan</a:t>
            </a:r>
            <a:br>
              <a:rPr sz="2800"/>
            </a:br>
            <a:r>
              <a:rPr b="0" lang="en-US" sz="2800" spc="-1" strike="noStrike">
                <a:solidFill>
                  <a:srgbClr val="200b5b"/>
                </a:solidFill>
                <a:latin typeface="Times New Roman"/>
              </a:rPr>
              <a:t>arsip multimedi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4"/>
          <a:srcRect l="0" t="44018" r="28947" b="0"/>
          <a:stretch/>
        </p:blipFill>
        <p:spPr>
          <a:xfrm>
            <a:off x="228600" y="1676520"/>
            <a:ext cx="2971800" cy="10285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533520" y="1600200"/>
            <a:ext cx="2590560" cy="533520"/>
          </a:xfrm>
          <a:prstGeom prst="rect">
            <a:avLst/>
          </a:prstGeom>
          <a:noFill/>
          <a:ln cap="sq"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846360" y="1219320"/>
            <a:ext cx="1146960" cy="520560"/>
          </a:xfrm>
          <a:prstGeom prst="rect">
            <a:avLst/>
          </a:prstGeom>
          <a:solidFill>
            <a:srgbClr val="eaeaea"/>
          </a:solidFill>
          <a:ln cap="sq"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b5b"/>
                </a:solidFill>
                <a:latin typeface="Times New Roman"/>
              </a:rPr>
              <a:t>Search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981080" y="2362320"/>
            <a:ext cx="0" cy="533160"/>
          </a:xfrm>
          <a:prstGeom prst="line">
            <a:avLst/>
          </a:prstGeom>
          <a:ln cap="sq" w="38160">
            <a:solidFill>
              <a:srgbClr val="ff33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2438280" y="3048120"/>
            <a:ext cx="1752840" cy="761760"/>
          </a:xfrm>
          <a:prstGeom prst="line">
            <a:avLst/>
          </a:prstGeom>
          <a:ln cap="sq" w="38160">
            <a:solidFill>
              <a:srgbClr val="ff33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et untuk P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6CC6C-CC13-4DC8-89D0-F385594F31A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Jaringan Digital Library Nasional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nstitusi pendidikan dan riset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aling berbagi informasi ilmu pengetahuan yang dimiliki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nisiatif KMRG ITB: </a:t>
            </a:r>
            <a:br>
              <a:rPr sz="3200"/>
            </a:b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ndonesiaDLN, Indonesian Digital Library Network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Web site: </a:t>
            </a:r>
            <a:r>
              <a:rPr b="0" lang="en-US" sz="3200" spc="-1" strike="noStrike" u="sng">
                <a:solidFill>
                  <a:srgbClr val="ff33cc"/>
                </a:solidFill>
                <a:uFillTx/>
                <a:latin typeface="Times New Roman"/>
                <a:hlinkClick r:id="rId1"/>
              </a:rPr>
              <a:t>http://idln.itb.ac.id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ubscribe mailing list: </a:t>
            </a:r>
            <a:br>
              <a:rPr sz="3200"/>
            </a:br>
            <a:r>
              <a:rPr b="0" lang="en-US" sz="2800" spc="-1" strike="noStrike" u="sng">
                <a:solidFill>
                  <a:srgbClr val="ff33cc"/>
                </a:solidFill>
                <a:uFillTx/>
                <a:latin typeface="Times New Roman"/>
                <a:hlinkClick r:id="rId2"/>
              </a:rPr>
              <a:t>idln</a:t>
            </a:r>
            <a:r>
              <a:rPr b="0" lang="en-US" sz="2800" spc="-1" strike="noStrike" u="sng">
                <a:solidFill>
                  <a:srgbClr val="ff33cc"/>
                </a:solidFill>
                <a:uFillTx/>
                <a:latin typeface="Times New Roman"/>
                <a:hlinkClick r:id="rId3"/>
              </a:rPr>
              <a:t>-announcement-subscribe@idln.itb.ac.id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et untuk P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AB54B-34F2-4DB7-A458-4AE69852188B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kenario IndonesiaDL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14720" y="14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1676520" y="1447920"/>
          <a:ext cx="6705360" cy="5116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1447920"/>
                    <a:ext cx="6705360" cy="511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et untuk P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F24E0-D0A5-45F9-A1FE-BBB3DF6370AA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Rencana Implementasi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76640" y="1452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1371600" y="1447920"/>
          <a:ext cx="7086600" cy="5051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447920"/>
                    <a:ext cx="7086600" cy="505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et untuk P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C87C7-CD01-4C6F-AAB1-2C4F2471F001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erimakasih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smail Fahmi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KMRG ITB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mail: </a:t>
            </a:r>
            <a:r>
              <a:rPr b="0" lang="en-US" sz="3200" spc="-1" strike="noStrike" u="sng">
                <a:solidFill>
                  <a:srgbClr val="ff33cc"/>
                </a:solidFill>
                <a:uFillTx/>
                <a:latin typeface="Times New Roman"/>
                <a:hlinkClick r:id="rId1"/>
              </a:rPr>
              <a:t>ismail@itb.ac.id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Web: </a:t>
            </a:r>
            <a:r>
              <a:rPr b="0" lang="en-US" sz="3200" spc="-1" strike="noStrike" u="sng">
                <a:solidFill>
                  <a:srgbClr val="ff33cc"/>
                </a:solidFill>
                <a:uFillTx/>
                <a:latin typeface="Times New Roman"/>
                <a:hlinkClick r:id="rId2"/>
              </a:rPr>
              <a:t>http://netmon.itb.ac.id/~ismai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h/Fax: 022-2500089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erpustakaan Pusat ITB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Jl. Ganesha 10 Bandung 40132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et untuk P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AF273-715C-40C1-8242-8442C512C5E2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E-Public Relati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Mengapa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Gelombang ketiga: Informasi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ertumbuhan Interne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Cepat, Efektif, Efisie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eluang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ublic relatio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Market research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Dll.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antangan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ektretaris, staff, boss mau tidak mau harus dapat memanfaatkan Interne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et untuk P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55905-3A3A-4223-8EA8-F8190FBA2FA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Why?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-Commerc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-Tailing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-Bisni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-Banking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…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et untuk P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ACB33-0F8E-4008-8441-63BECB31784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E-Commerc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Electronic Commerce (EC): Jual beli barang/jasa di Internet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EC dilakukan melalui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E-tailing (virtual storefronts, virtual mall):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Amazon.com: buku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CDNow: CD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uppliesOnline: office supply, dl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Market Research (misal data demigrafis):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Polling, survey via web, dl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EDI, Electronic Data Interchange, pertukaran data bisnis secara elektronik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aeaea"/>
                </a:solidFill>
                <a:latin typeface="Times New Roman"/>
              </a:rPr>
              <a:t>Bersambung…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et untuk P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694A2-2E95-4BBC-B3C2-2C09A5B985C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E-Commerce … (2)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Email, Fax, Internet Telephony: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Unsolicited ads (promosi lewat email spam),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Email newsletter,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gn-up to receive email (ttg produk yang diminati)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-to-B (Business-to-Business)  jual beli: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Jual beli produk antar perusahaan melalui Interne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24 jam/hari showcas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To reach a right people in a company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ecurity of Business Transactions: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Authentikasi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Registrasi akses dan login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Enkripsi (penyandian data)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Privacy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et untuk P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A62E0-AE8E-4D06-B726-7CB1E6CB57E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E-Busines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E-Bisnis, Bisnis di Internet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idak hanya untuk jual beli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api juga pemberian layanan, kolaborasi, dan joint research dengan partner bisnis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ertama kali digunakan oleh IBM (Oktober 97)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Kini banyak perusahaan berfikir bisnis dengan budaya dan kapabilitas baru menggunakan Internet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ontoh sukses: Amazon.com, IBM, HP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Majalah ttg E-bisnis: </a:t>
            </a:r>
            <a:r>
              <a:rPr b="0" lang="en-US" sz="2800" spc="-1" strike="noStrike" u="sng">
                <a:solidFill>
                  <a:srgbClr val="ff33cc"/>
                </a:solidFill>
                <a:uFillTx/>
                <a:latin typeface="Times New Roman"/>
                <a:hlinkClick r:id="rId1"/>
              </a:rPr>
              <a:t>http://www.idecisionmaker.com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et untuk P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091ED-AB3D-493C-BDD1-CBB82EB1046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Bagaimana bisa ke sana?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kill dasar bagi Public Relation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Email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Mailing Lis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WWW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dvance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FTP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News Group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et untuk P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27F05-BD77-47EB-8C20-BBD37DF380E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Email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mail tool paling ampuh untuk  komunikasi di Internet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epat dan mudah memberi response, tidak perlu khawatir bagaimana sampai ke tujuan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oftware-2 Email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Ms Outlook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Netscape Communicator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egasus Mai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dl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et untuk P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71475-75E2-457C-B01A-4F6EC26DFDD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16T01:18:43Z</dcterms:created>
  <dc:creator>Ismail Fahmi</dc:creator>
  <dc:description/>
  <dc:language>en-US</dc:language>
  <cp:lastModifiedBy>Ismail Fahmi</cp:lastModifiedBy>
  <dcterms:modified xsi:type="dcterms:W3CDTF">2000-10-16T09:29:38Z</dcterms:modified>
  <cp:revision>35</cp:revision>
  <dc:subject/>
  <dc:title>Internet Untuk Sekretaris</dc:title>
</cp:coreProperties>
</file>