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FDC-40E7-486A-ACC6-65AB837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2F3-E9BD-4C10-BEB6-50F8485F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56D-01ED-4DF5-A5EE-2A3B41F7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252-DD49-4422-AA7E-ED4CCDB2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7E6A-B74E-4284-8F01-7A9FC769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5D4-5D97-4233-A641-63644DC1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11C9-506C-4E09-887E-20954862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3CCC-03A4-4311-A8DA-84C402E7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2D67-F266-4B2E-B657-EB1D8746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CF4A-1BE9-4F4C-82CE-C932E9B3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1303-2C36-4EC0-8A5B-987B2ACC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E5F-2FF9-486C-8320-5F3DDA7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4571-51C2-4D66-A9EB-C2EDAE7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FBAA-400A-44D3-9CA0-903F44D4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0570-F58F-44D3-8E71-4042570B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23A3-C3C4-491A-A813-58301B66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4C33-09A0-4A8E-8533-AEABBFE9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A1D-2046-4352-97D9-CCE622C2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96A-5913-4A0C-9BEF-1C9DD80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7F2-C658-4961-A840-E68DD77E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92E-03E0-4DC8-9569-0E3D9B61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948-60DD-48CA-B064-9CE85210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5F3-3144-4974-BA47-CBFBBEDD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F08-C817-48FD-AC53-445C0C06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B5CE-B9A9-4F6F-8D90-4F9E7F474102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7847-46AE-4153-A7EF-1F4A6A7BA526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Kontribusi Perpustakaan Pusat ITB:</a:t>
            </a: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sep, strategi, teknologi, dan jaringan Digital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MRG, AI3, CN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mail Fahmi - Ismail@itb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B06C-68DB-4657-A0C8-E74ACA812D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WAIS-I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566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162-0A07-4132-ADD3-07B492790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 server di IT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ggo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1 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40 buah database CDS/ISIS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an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ll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33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19720" cy="39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C0A-480A-4A80-8DAD-6B4297063C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nline shopping &amp; or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971800" cy="207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55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243864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90920" cy="19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27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54340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52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924280" cy="24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2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52280" y="4114800"/>
            <a:ext cx="284796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81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276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17B-AB25-45AA-B63B-85717E0D8B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Ganesha Digital Librar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jadi knowledgebase dari IC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gan mengelola tacit &amp; explicit knowledge civitas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ggunakan TI yang tepat dan terjangkau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membuka akses bagi masyarakat secara lu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http://digital.lib.itb.ac.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E1A-F5DE-47D1-8EDC-01E3779F00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plic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urse mate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54C-1CA3-48B0-B9A9-6B1E91BD43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Tac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iling list archiv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E4A-D2F5-47D5-A69E-C06E0C0F7F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Captu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555bad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5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DB2-F9EA-47E7-AE8C-74B64E0932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Access &amp; Dissemin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9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0" name=""/>
          <p:cNvCxnSpPr>
            <a:stCxn id="198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8" idx="4"/>
            <a:endCxn id="203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9A6-0850-4CD1-8013-27FDF61531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Pres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5B4-1194-4A48-9E83-B6F676512C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mpus Network Top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B56-F540-4B82-8B83-9EDBFCD5DE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ilas tentang Knowledge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KM di PP I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ISNetwork, One Stop Shop for Libraries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nesha Digital Libr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ringan Digital Library: Nasional &amp; Interna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Free-Software: GNU-Li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519-FB7D-449F-834B-120E28C50D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onfigurasi Serv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at in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tium 1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4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 GB H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IS-ISIS search eng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l ser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ail + Ezml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8840" y="182880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00 GB HD (hingga T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48B-676C-4DB2-9654-FD157B0BE3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aringan Digital Library Nasion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yek pembuatan sistem jaringan digital library nasiona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husus mengelola laporan penelitian, thesis, dan disertas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4360" y="141120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600-856F-45CE-BD55-424DC9898C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kus komunitas tar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asiswa dan Peneli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omunitas yang kreatif dan inovatif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sen knowled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nowledge manager, organis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digma library sbg information ce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luang linka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DE7-9918-4FDE-9734-32D1EA85DB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hasil penelitian terbuka dan mudah diak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blikasi hasil penelitian semakin cepat, mudah, dan mura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ualitas lulusan dan hasil penelitiannya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anfaatkan hasil penelitian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ksternalisasi tacit knowled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age dengan dunia bisnis, industri, dan masyara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8B0-C043-483F-AC4D-594BC22BB7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laksan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MRG &amp; CN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d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N ASIA/IDRC Singapo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yasan Litbang Telekomunikasi dan Informatik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N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n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ian Internet Interconnection Initiatives (AI3)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463-C721-48EB-9E2C-141EB469C8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tner (pioneer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263-0A96-4622-B3F0-A9216A1FA5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28600"/>
          <a:ext cx="82296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2296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826-8408-4F06-8B3B-4178AC17D2E2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put 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 server Digital Library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ndard: metadata, naming, submission method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 pengelola di tiap part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DE8-3491-410A-B5F4-38F22E081B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Jaringan Digital Library Internasiona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tukaran knowledgebase (laporan penelitian, tesis, dan disertas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ner di luar negeri (confirmed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Groningen, Belan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Aalborg, Denm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B sebagai hub/gateway untuk Indones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imasi tahun 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BBC-0C1C-4783-A2BF-E8F3397150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06A-9AE1-4E64-A8E1-318185F059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Knowledge Management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555b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24B-DA86-4243-8743-7AAC45EB2D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uang jaringan Internas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AEE-E375-4A5A-AA12-523FBE6109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a Self-Sustainab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ding hanya diperlukan diaw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anjutnya pola self-sustainabl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akses ke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ualan CD-ROM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base sebagai modal barter dengan partner internasio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058-285E-4CA7-8232-826784C8BD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u Plagiatis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iap orang akan dengan mudah mengetahui hasil / laporan riset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setiap plagiat akan mudah dilacak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keinginan berbuat plagiat semakin keci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4D1-7B55-4A7C-B8B8-D2F59AC2AE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GNU-Lib, Free-Software Library Auto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-Softwar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erarti “freedom”, “bebas”, “liberty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kan “gratis”, “harga 0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rary Automa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kflow aktifitas perpustakaan dengan bantuan T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ncarian, peminjaman, pengembalian, denda, pemesanan, perpanjangan, pengadaan buku, keanggotaan, dl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-Lib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ject pembuatan Free-Software Library Auto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leh KM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gnu-head-sm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362320" cy="2233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939000" y="5410080"/>
            <a:ext cx="120636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hun i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125-1148-48E0-BDB6-C0494680B5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gsi library automation pada umum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b akses: online search, pesan, perpanjangan, 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ail aler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code enab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8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E6C-CE74-413D-A55D-63FC944374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entium 100 M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2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 GB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or 48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6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o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Mod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et connection to ISP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DCB-F59D-4A25-B9B2-84D8252FB8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perating system: Linux or Unix 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atabase server: 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cripting language: Per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eb server: 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il server: Qm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OS with TCP/IP applic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or barcode printing, using Windows 95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E30-72A3-4462-B75A-487F2A854F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4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240-3911-4646-BFA9-5C58A35C4D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 K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C0E-FE4F-47F3-901B-E51C5D2D1E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27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744e1d"/>
                </a:gs>
                <a:gs pos="50000">
                  <a:srgbClr val="fcab40"/>
                </a:gs>
                <a:gs pos="100000">
                  <a:srgbClr val="744e1d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ikator Keberhasi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001-5684-46DE-A7C4-8AFC9B660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unci suk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daya “knowledge-friend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juan dan Bahasa yang jel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transfer dengan berbagai ja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kungan senior manaje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F0A-16F2-42EE-8960-D709BCF58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roject KM di PP ITB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uju masyarakat berbasis ilmu pengetahua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lalui pengelolaan modal intelektual secara efektif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ggunakan teknologi informasi yang tepat dan terjangka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C9F-2C10-4683-A4C6-F953AB5DC9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rateg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/Open-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bangun tool DL yang  “free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gelola dan membuka akses ke IC I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re teknologi DL dan membangun jaringan 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si komunitas “knowledge-shar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E14-7F8D-42EA-8A7F-F6F152E5F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, One Stop Sho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81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34320" cy="506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70240" y="2133720"/>
            <a:ext cx="3292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http://isisnetwork.lib.itb.ac.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030-A899-4BA8-84B1-0FA57EC8CA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8:51:05Z</dcterms:created>
  <dc:creator>Ismail Fahmi</dc:creator>
  <dc:description/>
  <dc:language>en-US</dc:language>
  <cp:lastModifiedBy>Ismail Fahmi</cp:lastModifiedBy>
  <dcterms:modified xsi:type="dcterms:W3CDTF">2000-06-30T01:13:32Z</dcterms:modified>
  <cp:revision>39</cp:revision>
  <dc:subject/>
  <dc:title>Leveraging Intellectual Capital Assets within Research &amp; Education Institutions</dc:title>
</cp:coreProperties>
</file>