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240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37AF-C097-4E24-8717-BCEDA558D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94920" y="4352400"/>
            <a:ext cx="7086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A38F-30C2-4CD5-912D-EA486A0C1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9492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2624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E7E4-BFBF-475D-A1EB-4FA51023D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91080" y="236196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7240" y="236196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94920" y="435240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91080" y="435240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7240" y="435240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2B63-DC21-4C43-AFE2-5199E986B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CCD02-A4AA-4924-8B08-573DD0C5B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470E2-E2E7-4F49-A85E-39C70C46D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E54F4-5D20-4A12-ADF3-B08AD1A1D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FF06A-5D53-42A0-9605-9B3C5B4F3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789E0-9112-448A-8AC8-3D0ED1162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294920" y="6858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7DA13-B858-4BC3-A241-B86A46B64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29492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41AB0-1F2B-4696-985E-9C910DA6E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FA4C-62D1-4ABF-A506-0D5346C9F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92624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41618-0A5E-4877-A32C-28A0CFBCF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294920" y="4352400"/>
            <a:ext cx="7086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9173E-64AF-48E9-A1E6-D216327BB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294920" y="4352400"/>
            <a:ext cx="7086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906F3-C110-4442-94B7-DDBB07846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29492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92624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271E2-AAF4-4FDD-9383-F6972884B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1080" y="236196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87240" y="236196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294920" y="435240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1080" y="435240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87240" y="435240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909F1-F1B3-4A2B-A2B8-C92D6E01B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A9C4-E0CB-4E9C-85ED-31D7702B7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9955-F462-4885-9450-9A7111BBF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D404-0662-48AA-9E3E-0A01EC1A6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94920" y="6858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D429-A388-4593-B254-281B983BB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9492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F71A-1491-40F6-80B2-8EC52A3EE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2624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CE86-A96B-45DB-BFBF-8F1735AC4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94920" y="4352400"/>
            <a:ext cx="7086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2280-5246-42E6-B074-1DEA006B4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2BD13-6ED8-44B6-9426-B9E3F5E84627}" type="slidenum">
              <a:rPr b="1" lang="en-US" sz="28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4303800"/>
            <a:ext cx="3276720" cy="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066680"/>
            <a:ext cx="868680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533520" y="0"/>
            <a:ext cx="3276360" cy="2133720"/>
            <a:chOff x="533520" y="0"/>
            <a:chExt cx="3276360" cy="2133720"/>
          </a:xfrm>
        </p:grpSpPr>
        <p:sp>
          <p:nvSpPr>
            <p:cNvPr id="45" name=""/>
            <p:cNvSpPr/>
            <p:nvPr/>
          </p:nvSpPr>
          <p:spPr>
            <a:xfrm>
              <a:off x="1600200" y="1066680"/>
              <a:ext cx="53352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133720" y="160020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74320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276720" y="106668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06668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533520" y="0"/>
            <a:ext cx="3276000" cy="2133720"/>
            <a:chOff x="533520" y="0"/>
            <a:chExt cx="3276000" cy="2133720"/>
          </a:xfrm>
        </p:grpSpPr>
        <p:sp>
          <p:nvSpPr>
            <p:cNvPr id="52" name=""/>
            <p:cNvSpPr/>
            <p:nvPr/>
          </p:nvSpPr>
          <p:spPr>
            <a:xfrm>
              <a:off x="1599840" y="1067040"/>
              <a:ext cx="533160" cy="53316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133360" y="160020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742840" y="53352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276360" y="1067040"/>
              <a:ext cx="533160" cy="53316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066680" y="533520"/>
              <a:ext cx="532800" cy="53352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4114800" y="4191120"/>
            <a:ext cx="210960" cy="210960"/>
          </a:xfrm>
          <a:prstGeom prst="rect">
            <a:avLst/>
          </a:prstGeom>
          <a:solidFill>
            <a:srgbClr val="0099cc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19720" y="4191120"/>
            <a:ext cx="210960" cy="210960"/>
          </a:xfrm>
          <a:prstGeom prst="rect">
            <a:avLst/>
          </a:prstGeom>
          <a:solidFill>
            <a:srgbClr val="0099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724280" y="4191120"/>
            <a:ext cx="211320" cy="210960"/>
          </a:xfrm>
          <a:prstGeom prst="rect">
            <a:avLst/>
          </a:prstGeom>
          <a:solidFill>
            <a:srgbClr val="00cc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0DCDB-C9C4-4690-BF84-9EA85F71B461}" type="slidenum">
              <a:rPr b="1" lang="en-US" sz="3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Ismail@itb.ac.id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lir.org/diglib/about/strategic.htm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11 Bulan IndonesiaDLN dan Tantangan Di Depan Itu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447920" y="3505320"/>
            <a:ext cx="64008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Ismail Fahmi &lt;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ahoma"/>
                <a:hlinkClick r:id="rId1"/>
              </a:rPr>
              <a:t>Ismail@itb.ac.id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&gt;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Sekjen IndonesiaDLN (s/d 2002)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Ketua KMRG ITB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11 April 2002, Savoy Homan, Bandung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ktifitas IndonesiaDL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da 4 aspek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Society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; mengelola forum IndonesiaDLN (lewat milis dan pertemuan tahunan)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Policy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; proaktif memberi masukan kepada pimpinan institusi-institusi untuk berbagi pengetahuan (belum terlalu diaktifkan)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Strategic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; standard metadata dan protokol, strategic business unit model, services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Technical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; tools, arsitektur, network, hub server, instalasi, training, operasiona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Komponen IndonesiaDL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Partner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; simpul/node dari jaring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User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; penggun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Aliansi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; institusi kerjasam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Sekretaria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; executiv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Standard &amp; Tool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; metadata, protokol, softwa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Hub Server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; the storages of knowled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Fasilitas IndonesiaDL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kretariat; numpang bareng KMRG di Perpustakaan Pusat ITB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rver Hub; numpang bareng server KMRG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oneksi Internet, 2 mbps numpang bareng AI3 ITB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Konfigurasi sebuah LAN DL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"/>
          <p:cNvSpPr/>
          <p:nvPr/>
        </p:nvSpPr>
        <p:spPr>
          <a:xfrm>
            <a:off x="314784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gdl-lan" descr=""/>
          <p:cNvPicPr/>
          <p:nvPr/>
        </p:nvPicPr>
        <p:blipFill>
          <a:blip r:embed="rId1"/>
          <a:stretch/>
        </p:blipFill>
        <p:spPr>
          <a:xfrm>
            <a:off x="1676520" y="2057400"/>
            <a:ext cx="5943600" cy="39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rsitektur IndonesiaDL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3581280" y="2971800"/>
            <a:ext cx="1828800" cy="53352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donesiaDL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UB Ser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81280" y="3505320"/>
            <a:ext cx="1828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DL-Eng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533520" y="2514600"/>
            <a:ext cx="1371600" cy="1143000"/>
            <a:chOff x="533520" y="2514600"/>
            <a:chExt cx="1371600" cy="1143000"/>
          </a:xfrm>
        </p:grpSpPr>
        <p:sp>
          <p:nvSpPr>
            <p:cNvPr id="142" name=""/>
            <p:cNvSpPr/>
            <p:nvPr/>
          </p:nvSpPr>
          <p:spPr>
            <a:xfrm>
              <a:off x="533520" y="2514600"/>
              <a:ext cx="1371600" cy="76212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GDL-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33520" y="3276720"/>
              <a:ext cx="137160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DL-Engi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380880" y="4267080"/>
            <a:ext cx="1523880" cy="1143000"/>
            <a:chOff x="380880" y="4267080"/>
            <a:chExt cx="1523880" cy="1143000"/>
          </a:xfrm>
        </p:grpSpPr>
        <p:sp>
          <p:nvSpPr>
            <p:cNvPr id="145" name=""/>
            <p:cNvSpPr/>
            <p:nvPr/>
          </p:nvSpPr>
          <p:spPr>
            <a:xfrm>
              <a:off x="380880" y="4267080"/>
              <a:ext cx="1523880" cy="7621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Human Rights-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80880" y="5029200"/>
              <a:ext cx="152388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DL-Engi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7086600" y="2514600"/>
            <a:ext cx="1371600" cy="1143000"/>
            <a:chOff x="7086600" y="2514600"/>
            <a:chExt cx="1371600" cy="1143000"/>
          </a:xfrm>
        </p:grpSpPr>
        <p:sp>
          <p:nvSpPr>
            <p:cNvPr id="148" name=""/>
            <p:cNvSpPr/>
            <p:nvPr/>
          </p:nvSpPr>
          <p:spPr>
            <a:xfrm>
              <a:off x="7086600" y="2514600"/>
              <a:ext cx="1371600" cy="76212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gricult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086600" y="3276720"/>
              <a:ext cx="137160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DL-Engi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7086600" y="4267080"/>
            <a:ext cx="1371600" cy="1143000"/>
            <a:chOff x="7086600" y="4267080"/>
            <a:chExt cx="1371600" cy="1143000"/>
          </a:xfrm>
        </p:grpSpPr>
        <p:sp>
          <p:nvSpPr>
            <p:cNvPr id="151" name=""/>
            <p:cNvSpPr/>
            <p:nvPr/>
          </p:nvSpPr>
          <p:spPr>
            <a:xfrm>
              <a:off x="7086600" y="4267080"/>
              <a:ext cx="1371600" cy="76212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Heritage-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086600" y="5029200"/>
              <a:ext cx="137160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DL-Engi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3809880" y="4724280"/>
            <a:ext cx="1371600" cy="1143000"/>
            <a:chOff x="3809880" y="4724280"/>
            <a:chExt cx="1371600" cy="1143000"/>
          </a:xfrm>
        </p:grpSpPr>
        <p:sp>
          <p:nvSpPr>
            <p:cNvPr id="154" name=""/>
            <p:cNvSpPr/>
            <p:nvPr/>
          </p:nvSpPr>
          <p:spPr>
            <a:xfrm>
              <a:off x="3809880" y="4724280"/>
              <a:ext cx="1371600" cy="76212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Biblio-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809880" y="5486400"/>
              <a:ext cx="137160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DL-Engi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1905120" y="3429000"/>
            <a:ext cx="1676160" cy="152280"/>
          </a:xfrm>
          <a:custGeom>
            <a:avLst/>
            <a:gdLst/>
            <a:ahLst/>
            <a:rect l="l" t="t" r="r" b="b"/>
            <a:pathLst>
              <a:path w="1056" h="96">
                <a:moveTo>
                  <a:pt x="0" y="0"/>
                </a:moveTo>
                <a:lnTo>
                  <a:pt x="480" y="0"/>
                </a:lnTo>
                <a:lnTo>
                  <a:pt x="480" y="96"/>
                </a:lnTo>
                <a:lnTo>
                  <a:pt x="1056" y="96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905120" y="3733920"/>
            <a:ext cx="1676160" cy="1523880"/>
          </a:xfrm>
          <a:custGeom>
            <a:avLst/>
            <a:gdLst/>
            <a:ahLst/>
            <a:rect l="l" t="t" r="r" b="b"/>
            <a:pathLst>
              <a:path w="1056" h="912">
                <a:moveTo>
                  <a:pt x="0" y="912"/>
                </a:moveTo>
                <a:lnTo>
                  <a:pt x="480" y="912"/>
                </a:lnTo>
                <a:lnTo>
                  <a:pt x="480" y="0"/>
                </a:lnTo>
                <a:lnTo>
                  <a:pt x="1056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5409360" y="3429000"/>
            <a:ext cx="1676520" cy="228600"/>
          </a:xfrm>
          <a:custGeom>
            <a:avLst/>
            <a:gdLst/>
            <a:ahLst/>
            <a:rect l="l" t="t" r="r" b="b"/>
            <a:pathLst>
              <a:path w="1056" h="96">
                <a:moveTo>
                  <a:pt x="0" y="0"/>
                </a:moveTo>
                <a:lnTo>
                  <a:pt x="480" y="0"/>
                </a:lnTo>
                <a:lnTo>
                  <a:pt x="480" y="96"/>
                </a:lnTo>
                <a:lnTo>
                  <a:pt x="1056" y="96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5409360" y="3733920"/>
            <a:ext cx="1676520" cy="1523880"/>
          </a:xfrm>
          <a:custGeom>
            <a:avLst/>
            <a:gdLst/>
            <a:ahLst/>
            <a:rect l="l" t="t" r="r" b="b"/>
            <a:pathLst>
              <a:path w="1056" h="912">
                <a:moveTo>
                  <a:pt x="0" y="912"/>
                </a:moveTo>
                <a:lnTo>
                  <a:pt x="480" y="912"/>
                </a:lnTo>
                <a:lnTo>
                  <a:pt x="480" y="0"/>
                </a:lnTo>
                <a:lnTo>
                  <a:pt x="1056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81480" y="3809880"/>
            <a:ext cx="685800" cy="1905120"/>
          </a:xfrm>
          <a:custGeom>
            <a:avLst/>
            <a:gdLst/>
            <a:ahLst/>
            <a:rect l="l" t="t" r="r" b="b"/>
            <a:pathLst>
              <a:path w="432" h="1200">
                <a:moveTo>
                  <a:pt x="0" y="1200"/>
                </a:moveTo>
                <a:lnTo>
                  <a:pt x="432" y="1200"/>
                </a:lnTo>
                <a:lnTo>
                  <a:pt x="432" y="0"/>
                </a:lnTo>
                <a:lnTo>
                  <a:pt x="144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638680" y="1752480"/>
            <a:ext cx="1371600" cy="76212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ther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latfor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410080" y="2362320"/>
            <a:ext cx="762120" cy="121896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1056"/>
                </a:moveTo>
                <a:lnTo>
                  <a:pt x="480" y="1056"/>
                </a:lnTo>
                <a:lnTo>
                  <a:pt x="480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2057400" y="1828800"/>
            <a:ext cx="1904760" cy="914040"/>
            <a:chOff x="2057400" y="1828800"/>
            <a:chExt cx="1904760" cy="914040"/>
          </a:xfrm>
        </p:grpSpPr>
        <p:sp>
          <p:nvSpPr>
            <p:cNvPr id="164" name=""/>
            <p:cNvSpPr/>
            <p:nvPr/>
          </p:nvSpPr>
          <p:spPr>
            <a:xfrm>
              <a:off x="2057400" y="1828800"/>
              <a:ext cx="1904760" cy="60948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istance Learning-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057400" y="2438280"/>
              <a:ext cx="1904760" cy="3045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DL-Engi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2590920" y="2743200"/>
            <a:ext cx="990360" cy="609480"/>
          </a:xfrm>
          <a:custGeom>
            <a:avLst/>
            <a:gdLst/>
            <a:ahLst/>
            <a:rect l="l" t="t" r="r" b="b"/>
            <a:pathLst>
              <a:path w="624" h="384">
                <a:moveTo>
                  <a:pt x="0" y="0"/>
                </a:moveTo>
                <a:lnTo>
                  <a:pt x="0" y="384"/>
                </a:lnTo>
                <a:lnTo>
                  <a:pt x="624" y="384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371600" y="5638680"/>
            <a:ext cx="1371600" cy="762120"/>
          </a:xfrm>
          <a:prstGeom prst="rect">
            <a:avLst/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A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819520" y="3886200"/>
            <a:ext cx="761760" cy="1981080"/>
          </a:xfrm>
          <a:custGeom>
            <a:avLst/>
            <a:gdLst/>
            <a:ahLst/>
            <a:rect l="l" t="t" r="r" b="b"/>
            <a:pathLst>
              <a:path w="1056" h="912">
                <a:moveTo>
                  <a:pt x="0" y="912"/>
                </a:moveTo>
                <a:lnTo>
                  <a:pt x="480" y="912"/>
                </a:lnTo>
                <a:lnTo>
                  <a:pt x="480" y="0"/>
                </a:lnTo>
                <a:lnTo>
                  <a:pt x="1056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yarat Menjadi Partner/Nod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Memiliki sumber pengetahuan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an </a:t>
            </a: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bersedia berbagi pengetahuan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bagi kemajuan bangsa Indonesia.”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Langkah Menjadi Partner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finisikan: knowledge source, type, user, dan service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apkan staf dan mekanisme pengelolaan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stall server digital libra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gistrasikan server ke IndonesiaDL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nkronisasi data (share and harvest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ive service 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18960" y="2590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tatistik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Juni 2001 – April 2002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GDL Hub Server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Jumlah Partner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stitusi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= 6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rsonal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= 1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arne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= 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tal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= 7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Kode Partner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ABBNAM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A = Kode wilayah (menurut Indomarc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isal: JB = Jawa Bara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B = Tipe perpustakaan/institus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T = Perguruan Tingg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K = Perpustakaan Khusu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N = Warne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E = Persona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AME = Singkatan nama perpustakaan/institus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toh: JBPTITBPP (Perpustakaan Pusat ITB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ndonesiaDLN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buah FORU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ktober 2000: Forum dibentuk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Juni 2001: Jaringan DL diluncurk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pril 2002: Pertemuan Tahunan Ketig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ggota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Individu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yang tertarik pada PENGEMBANGAN DL di Indonesia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Institusi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yang ingin turut BERBAGI PENGETAHUAN bagi bangsa Indonesia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6632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artner/Nodes (Institusi)</a:t>
            </a:r>
            <a:br>
              <a:rPr sz="4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er 6 April 200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1828800" y="190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0" y="1793880"/>
          <a:ext cx="9144000" cy="506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93880"/>
                    <a:ext cx="9144000" cy="506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Kondisi Koneksi Interne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al-up / temporary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= 4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dicate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= 3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ipe Conten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304920" y="2133720"/>
          <a:ext cx="8458200" cy="3430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133720"/>
                    <a:ext cx="8458200" cy="343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"/>
          <p:cNvSpPr/>
          <p:nvPr/>
        </p:nvSpPr>
        <p:spPr>
          <a:xfrm>
            <a:off x="5488200" y="5715000"/>
            <a:ext cx="323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 = 4023 meta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Format Fil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304920" y="1447920"/>
          <a:ext cx="8610480" cy="5238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447920"/>
                    <a:ext cx="8610480" cy="523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5 Besar Kontributor Metadata &amp; Fi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1219320" y="1371600"/>
          <a:ext cx="7010280" cy="472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371600"/>
                    <a:ext cx="701028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hare Vs Harves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umlah Partne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hare metadata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= 36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hare fil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= 3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arvest/downloa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= 4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idak aktif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= 27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Member / User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609480" y="1600200"/>
          <a:ext cx="6096240" cy="4456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600200"/>
                    <a:ext cx="6096240" cy="44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7151760" y="1563840"/>
            <a:ext cx="124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ondi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iil bi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bih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sa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Negara Asal Member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1371600" y="1981080"/>
          <a:ext cx="4067280" cy="4419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981080"/>
                    <a:ext cx="406728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"/>
          <p:cNvSpPr/>
          <p:nvPr/>
        </p:nvSpPr>
        <p:spPr>
          <a:xfrm>
            <a:off x="6159960" y="2021040"/>
            <a:ext cx="190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a juga y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ang dari L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rofile Member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1523880" y="1905120"/>
          <a:ext cx="4017960" cy="472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905120"/>
                    <a:ext cx="40179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7" name=""/>
          <p:cNvSpPr/>
          <p:nvPr/>
        </p:nvSpPr>
        <p:spPr>
          <a:xfrm>
            <a:off x="6160320" y="1639800"/>
            <a:ext cx="216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1,5%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hasiswa S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sisi kedu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ri Priv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any !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tatistik Akses GDL Hub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"/>
          <p:cNvSpPr/>
          <p:nvPr/>
        </p:nvSpPr>
        <p:spPr>
          <a:xfrm>
            <a:off x="2133720" y="2209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" name="usage" descr=""/>
          <p:cNvPicPr/>
          <p:nvPr/>
        </p:nvPicPr>
        <p:blipFill>
          <a:blip r:embed="rId1"/>
          <a:stretch/>
        </p:blipFill>
        <p:spPr>
          <a:xfrm>
            <a:off x="1066680" y="2209680"/>
            <a:ext cx="7010640" cy="350532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754200" y="5907240"/>
            <a:ext cx="73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bagian besar berupa sinkronisasi data dari Partn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1523880" y="3124080"/>
          <a:ext cx="6553440" cy="271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3124080"/>
                    <a:ext cx="6553440" cy="271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Misi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"/>
          <p:cNvSpPr/>
          <p:nvPr/>
        </p:nvSpPr>
        <p:spPr>
          <a:xfrm>
            <a:off x="1066680" y="1371600"/>
            <a:ext cx="379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 u="sng">
                <a:solidFill>
                  <a:srgbClr val="ffcc00"/>
                </a:solidFill>
                <a:uFillTx/>
                <a:latin typeface="Arial"/>
              </a:rPr>
              <a:t>Unlock !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5638680" y="2743200"/>
            <a:ext cx="2209680" cy="1447560"/>
            <a:chOff x="5638680" y="2743200"/>
            <a:chExt cx="2209680" cy="1447560"/>
          </a:xfrm>
        </p:grpSpPr>
        <p:sp>
          <p:nvSpPr>
            <p:cNvPr id="110" name=""/>
            <p:cNvSpPr/>
            <p:nvPr/>
          </p:nvSpPr>
          <p:spPr>
            <a:xfrm>
              <a:off x="5638680" y="3264120"/>
              <a:ext cx="1493280" cy="926640"/>
            </a:xfrm>
            <a:prstGeom prst="can">
              <a:avLst>
                <a:gd name="adj" fmla="val 18490"/>
              </a:avLst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13640" y="2743200"/>
              <a:ext cx="1134720" cy="1274040"/>
            </a:xfrm>
            <a:prstGeom prst="blockArc">
              <a:avLst>
                <a:gd name="adj1" fmla="val 10688600"/>
                <a:gd name="adj2" fmla="val 111400"/>
                <a:gd name="adj3" fmla="val 20708"/>
              </a:avLst>
            </a:prstGeom>
            <a:gradFill rotWithShape="0">
              <a:gsLst>
                <a:gs pos="0">
                  <a:srgbClr val="755e00"/>
                </a:gs>
                <a:gs pos="100000">
                  <a:srgbClr val="ff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877360" y="3322440"/>
              <a:ext cx="298440" cy="57600"/>
            </a:xfrm>
            <a:prstGeom prst="ellipse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1143000" y="259092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ccess to our knowled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Kecenderungan Partner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rtner tetap aktif mengelola DLnya dan melakukan sharing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rtner tetap aktif mengelola DLnya tapi tidak aktif sharing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rtner hanya aktif harvest/download metadata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rtner hanya terdaftar saj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nalis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ecenderungan tsb mungkin disebabka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L adalah sesuatu yang baru dan ingin dicoba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ukungan pimpinan institusi untuk mengelola DL kurang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andard operasi sinkronisasi data belum ada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osialisasi aktif dan service bagi partner belum didefinisikan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elum adanya definisi pasar, kebutuhan user, dan standard service bersam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antangan Di Depa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7" name="8cs" descr=""/>
          <p:cNvPicPr/>
          <p:nvPr/>
        </p:nvPicPr>
        <p:blipFill>
          <a:blip r:embed="rId1"/>
          <a:stretch/>
        </p:blipFill>
        <p:spPr>
          <a:xfrm>
            <a:off x="1219320" y="2057400"/>
            <a:ext cx="6553080" cy="41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ertanyaan untuk Meeting Ketiga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o are our users and what are their need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services we will provide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about standard, protocol, and tool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o will lead the IndonesiaDLN next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w to survive from the financial issue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18960" y="28191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erimakasih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antangan Terbesar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rasal dari </a:t>
            </a:r>
            <a:r>
              <a:rPr b="0" lang="en-US" sz="3600" spc="-1" strike="noStrike" u="sng">
                <a:solidFill>
                  <a:srgbClr val="ffcc00"/>
                </a:solidFill>
                <a:uFillTx/>
                <a:latin typeface="Tahoma"/>
              </a:rPr>
              <a:t>dalam diri kita sendiri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e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LOCK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our knowledge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on’t want to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UNLOCK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it, 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et it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LOCKE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6172200" y="4191120"/>
            <a:ext cx="1494000" cy="1523880"/>
            <a:chOff x="6172200" y="4191120"/>
            <a:chExt cx="1494000" cy="1523880"/>
          </a:xfrm>
        </p:grpSpPr>
        <p:sp>
          <p:nvSpPr>
            <p:cNvPr id="117" name=""/>
            <p:cNvSpPr/>
            <p:nvPr/>
          </p:nvSpPr>
          <p:spPr>
            <a:xfrm>
              <a:off x="6172200" y="4788000"/>
              <a:ext cx="1494000" cy="927000"/>
            </a:xfrm>
            <a:prstGeom prst="can">
              <a:avLst>
                <a:gd name="adj" fmla="val 18490"/>
              </a:avLst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400800" y="4191120"/>
              <a:ext cx="1135080" cy="1274760"/>
            </a:xfrm>
            <a:prstGeom prst="blockArc">
              <a:avLst>
                <a:gd name="adj1" fmla="val 10688600"/>
                <a:gd name="adj2" fmla="val 111400"/>
                <a:gd name="adj3" fmla="val 20708"/>
              </a:avLst>
            </a:prstGeom>
            <a:gradFill rotWithShape="0">
              <a:gsLst>
                <a:gs pos="0">
                  <a:srgbClr val="755e00"/>
                </a:gs>
                <a:gs pos="100000">
                  <a:srgbClr val="ff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y it is locked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arena KITA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idak (mau?) tahu apa yang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kita tidak tahu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idak (mau?) tahu apa yang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kita tahu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idak (mau?) tahu apa yang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perlu kita tahu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idak (mau?) tahu apa yang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orang lain ingin tahu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idak (mau?) tahu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cara memberi tahu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 ata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an seterusnya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How to Unlock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ilah tugas KITA di IndonesiaDL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ITA haru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enjadi TAHU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enjadi SADAR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u BERBAGI, lal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hare it ! Tunggu apa lagi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pa yang perlu dike-TAHU-i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ekayaan intelektual kita (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conten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)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apa membutuhkan apa (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community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)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agaimana menyampaikannya (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culture,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cooperation, commerce, capital, capacity, dan connectivity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ihat: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 http://idln.lib.itb.ac.id/Open.html?target= overview/delapan_kesenjangan.htm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Mengapa Digital Library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rupakan ‘storage of knowledge’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udah dan murah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nline, anywhere, anytime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brary (Perpustakaan) sudah lama dikenal masyaraka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efinisi Digital Library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"Digital libraries are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organizations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hat provide the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resources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including the specialized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staff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to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select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structure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offer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ntellectual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ccess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o,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interpret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distribute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preserve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he integrity of, and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nsure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he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persistence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over time of collections of digital works so that they are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readily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nd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conomically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vailable for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use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y a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defined community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or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set of communities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"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imes New Roman"/>
                <a:ea typeface="Times New Roman"/>
                <a:hlinkClick r:id="rId1"/>
              </a:rPr>
              <a:t>http://www.clir.org/diglib/about/strategic.htm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0T00:50:10Z</dcterms:created>
  <dc:creator>Ismail Fahmi</dc:creator>
  <dc:description/>
  <dc:language>en-US</dc:language>
  <cp:lastModifiedBy>Ismail Fahmi</cp:lastModifiedBy>
  <dcterms:modified xsi:type="dcterms:W3CDTF">2002-04-10T05:01:40Z</dcterms:modified>
  <cp:revision>14</cp:revision>
  <dc:subject/>
  <dc:title>11 Bulan IndonesiaDLN dan Tantangan Masa Depan</dc:title>
</cp:coreProperties>
</file>