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51CA-B7DB-456F-83AF-74FA8D77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D74-8FCB-4D8E-A6E3-7E4136C5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A88-0CFD-439A-9123-02C36678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42B-8358-4C81-B896-45CB1B90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3241-4248-40CF-AC22-425FE59F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832F-50F0-4807-9D03-1AD5D5B6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5CDF-DE67-428A-B2D2-CC388CE7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A1E8-2B26-4D5C-AF31-2D842DDD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416B-768B-4FA0-A0BB-0A9AFC3C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8269-3E55-4341-9C31-A5E3EF36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F320-F7E5-4E79-A36A-06E59ADF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816-94A1-43C2-A8E8-ECFBFF10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B5F8-E111-42EF-B0F4-95CA3F39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53DB-BFAC-42D8-8D4D-50F28E23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2A8A-6D23-4464-80D4-DC9D082D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54CA-40DC-4C5A-95F5-66BA91F0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E099-8D78-4247-BBE6-73D97011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E47-97A4-4C2F-9DCB-5D192A47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FD5-9EB6-453D-8435-8D09777F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954-7B5C-4D6E-B4ED-356EC2E6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25F-E385-4FA8-B212-920A5AFE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85A-A185-4A2E-889D-C1BA977A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366-80E6-47C6-BDB2-B760AED0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1C5-38EC-44E6-8979-9D25D3DE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7E61-2DDC-41E2-BA06-1CDBE98EE60F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8A1E-BC15-4B3D-9644-C041861B68EE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Area-technical@idln.itb.ac.id" TargetMode="External"/><Relationship Id="rId3" Type="http://schemas.openxmlformats.org/officeDocument/2006/relationships/hyperlink" Target="mailto:Area-scenario@idln.itb.ac.i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16.wmf"/><Relationship Id="rId3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donesiaDLN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Juli 2001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Kap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anang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k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uncur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i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isiati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isiative bottom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ari grass root (awalnya dari universitas, perpustakaan, dan lembaga riset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engelo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berbag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lmu pengetahuan bangsa Indonesi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lui sebuah jaringan digital library yang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distrib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s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um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 yang membah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pertukaran informas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kenari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 digital library di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anggota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sialis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gram jaringan digit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emuan partner/konsorsium setiap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diman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kretariat di KMRG, Perpustakaan Pusat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impin seorang sekjen (Ismail Fahmi, 2000 – sekara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mailing list, kirim email kosong ke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a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-2 d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adal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di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Network, menggunakan software GDL (Ganesha Digital Library), dibuat KMRG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U-VL, menggunakan software New Spektra, dibuat oleh UK Petra Suraba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lain… (futur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b http://gdlhub.indonesiaDLN.or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ingan yang sud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dalam pengemba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jicoba interoperabilitas meta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= institusi, individu yang memiliki server digital library (GDL) dan bergabung ke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saat ini, terhubu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pustakaan Pus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t Biologi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ca Sarjana ITB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as Syah Kuala Banda Ace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2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utan, terhubu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A IP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Muhammadiyah Mal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dan Litbang Kesehatan Depkes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ina Nusanta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Atmajaya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Sam Ratulangi Man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Haluoleo Kend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AIN Yogyakar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Cendrawasih Irian Jay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M Dana Mitra Lingku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install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mbaga Pendidikan Al-Azhar J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daftar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hayangkara Surab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pemakai, pengguna, anggota yang mendaftar ke server-server GD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rdaftar di GDL Hub sekita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ang, sebagian besar dari Indonesia, dan sebagian dari Luar Nege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capan 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72320" y="2844720"/>
            <a:ext cx="46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sama-sama membang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38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46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49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52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55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58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61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64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67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70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7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97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30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3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2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34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6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3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3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4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5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6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7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7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8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8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9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9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0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0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1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1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2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2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3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5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7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7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8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04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05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38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3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40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42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4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4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58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61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9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1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3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5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7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1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82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85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9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93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99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04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1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34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47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63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65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7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69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73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74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80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86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90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94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5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07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8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9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7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98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02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09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15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19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21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3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25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36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37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47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9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51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207440" y="2786040"/>
            <a:ext cx="64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gaiman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em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sa Bergabu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f Bergabung Bagi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anfa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PP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ndi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di Departe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anfaatkan Server GDL PP IT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untung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menyediakan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biaya instalasi dan mainten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SDM Administrator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pat dimulai dengan Cep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an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njuk staff departemen yang akan menjadi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DI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ak Perpustakaan Pusat ITB untuk mendapatkan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aining Editor GD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gratis). Koordinasi, registrasi, dan akses ke GDL akan dilakukan selama Train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ai upload abstrak dan full content dari departemen masing-mas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Bergab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8200" y="54100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Sub kateg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partemen B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hat 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368280" y="573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ang server GDL sendiri di departe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oftware GDL, download free di http://gdl.itb.ac.id/download, atau pesan CD-ROM ke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 form registrasi untuk Institusi, kirim ke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send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butuh bantuan dan training, hubungi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abstrak dan full content ke server lokal, dan share ke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k dari knowledgebase IndonesiaDLN, secara otomati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rver GDL 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elah Registr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apat Publisher ID,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JBPTITB**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iliki server sendiri dg alamat http://digilib.**.itb.ac.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**=EL, BI, MS, et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iknya memiliki SDM Admin yang bisa mengelola server GDL Departemen untuk mainten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 perlu selalu koordinasi dengan KMRG ITB untuk maintenance dan troubleshoo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ke knowledgebase partner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gaimana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Mahasisw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sa Shar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angk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strasi online &amp; free menjadi member d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HUB, http://gdlhub.indonesiaDLN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ke server digital library lokal (milik institusi/departeme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&amp; share abstrak dan full content dari paper, laporan penelitian, dll An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Directory An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anda.com/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mudi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r otomatis akan menyebarkan ke IndonesiaDLN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ribusi Anda segera bisa di-AKSES secara lu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2355480" y="3063960"/>
            <a:ext cx="44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cana IndonesiaD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ata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biasanya berhubungan deng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membantu otonomi daerah dan pemanfaatan budaya bang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dengan jaringan informasi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manfaatk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nowledgebase aset ilmu pengetahuan dan budaya bangsa di IndonesiaDLN dengan berbagai media kreatif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13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16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19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Network di du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LTD, Networked Digital Library of Theses and Dissertation, Virginia, member 80++ universitas di dunia, http://www.ndltd.or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T, Australian Digital Theses. Member 7 universitas besar di Australia, http://adt.caul.edu.a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, di Indonesia, didesain khusus untuk negara berkembang, http://gdlhub.indonesiaDLN.or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RL Pen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tang GDL, registrasi, bergabung, patch, download, dll, http://gdlhub.indonesiaDLN.org/faqgdl.ph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ak KMRG: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153160" y="256536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erima kasi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epas kunci/borgol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K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hadap kekayaan Ilmu Pengetahuan bangsa Indone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lalui sebuah jaringan digital library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tiap orang/institusi mengelola sendiri kekayaan intelektual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atu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ebar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nggunakan standard metadata inter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ber informasi yang akan dikelola dan disebarkan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ri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pu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 Penelit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gas Akhir, Tesis,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kel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, Heritage, Multimedia, direktori expert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neli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merint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asjid, Lembaga Keagam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asi Masyara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7-17T00:58:25Z</dcterms:modified>
  <cp:revision>75</cp:revision>
  <dc:subject/>
  <dc:title>Digital Library Network dan  Riset Nasional</dc:title>
</cp:coreProperties>
</file>