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298-970A-4FE7-B0C2-AAFBD29D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4601-DF3C-4DB4-ACFD-6EDED24D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A082-7B68-464A-94BA-8EDFDA55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6334-9182-4B2B-9766-55292FDD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40CD-CD77-4B64-80DA-A3CF6A7E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933F-9401-42CA-A9AE-CEFDC45A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2F2-6EF9-4AAC-915C-BCEBFB46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44DE-BA15-4D8E-BE46-FC50C083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14B-6073-4E50-A022-631DF2A7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DEC5-CCDF-4614-AC54-F90A8655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5B8D-585A-44AF-B976-728EA52A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A19-7577-498E-8A94-519EDE1D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4C18-4B04-475C-9171-B8DF64743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Libr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menterian Lingkungan Hid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mail Fah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ledge Management Research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itut Teknologi Ban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dlhub" descr=""/>
          <p:cNvPicPr/>
          <p:nvPr/>
        </p:nvPicPr>
        <p:blipFill>
          <a:blip r:embed="rId1"/>
          <a:stretch/>
        </p:blipFill>
        <p:spPr>
          <a:xfrm>
            <a:off x="928800" y="219240"/>
            <a:ext cx="7286400" cy="6419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4724280"/>
            <a:ext cx="2895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228600"/>
            <a:ext cx="3879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b Server IndonesiaD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gdlhub.indonesiadl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dl-klh" descr=""/>
          <p:cNvPicPr/>
          <p:nvPr/>
        </p:nvPicPr>
        <p:blipFill>
          <a:blip r:embed="rId1"/>
          <a:stretch/>
        </p:blipFill>
        <p:spPr>
          <a:xfrm>
            <a:off x="507960" y="668160"/>
            <a:ext cx="8126280" cy="5521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47560" y="1295280"/>
            <a:ext cx="27226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in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Library K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klh-list" descr=""/>
          <p:cNvPicPr/>
          <p:nvPr/>
        </p:nvPicPr>
        <p:blipFill>
          <a:blip r:embed="rId1"/>
          <a:stretch/>
        </p:blipFill>
        <p:spPr>
          <a:xfrm>
            <a:off x="576360" y="1571760"/>
            <a:ext cx="7989840" cy="3714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79520" y="498600"/>
            <a:ext cx="495540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artikel dalam Digital Library KL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klh-artikel" descr=""/>
          <p:cNvPicPr/>
          <p:nvPr/>
        </p:nvPicPr>
        <p:blipFill>
          <a:blip r:embed="rId1"/>
          <a:stretch/>
        </p:blipFill>
        <p:spPr>
          <a:xfrm>
            <a:off x="571680" y="776160"/>
            <a:ext cx="8001000" cy="5303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16080" y="117360"/>
            <a:ext cx="6217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 Artikel dengan List File untuk didown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7T14:51:13Z</dcterms:created>
  <dc:creator>Ismail Fahmi</dc:creator>
  <dc:description/>
  <dc:language>en-US</dc:language>
  <cp:lastModifiedBy>Ismail Fahmi</cp:lastModifiedBy>
  <dcterms:modified xsi:type="dcterms:W3CDTF">2002-07-27T15:01:10Z</dcterms:modified>
  <cp:revision>2</cp:revision>
  <dc:subject/>
  <dc:title>Digital Library Kementerian Lingkungan Hidup</dc:title>
</cp:coreProperties>
</file>