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34FB-2F8D-4995-80E6-4281EB805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A8A-00E5-42CF-9912-C0F1CF2C5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EAE-7152-414C-905F-39329A621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71C2-EAC5-4555-B9EA-92739A98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5C0E-0911-4872-B50A-B8670FEA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D6E6-F29C-4015-9A34-3FEB5E55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95CD-D6C6-4125-A7E0-B425335B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6412-88F0-4B7D-9952-F7535BDF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AC42-4EBE-4EBE-A2E5-10A06182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3B7B-C271-4BC7-97BB-19EB3FE6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3C0BB-65A0-4E2D-AACF-8DCEBAD7D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DAEE-C767-4969-82A9-B05B7164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925D-0557-4DD1-8EF5-78C16234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C4CA-CD6B-4E75-9110-4E541B6B8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B3A3-9503-4726-8BE3-08EDE342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14EE-CAD4-4293-8F7B-F77BAE7E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F3F38-1679-44C9-A38A-757205557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22677-DA37-4F5E-8889-54821C91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82A3-2FE0-445E-9176-BDF9BCF8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A614-893B-4214-9F06-F01F85F1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2091-3589-435E-8018-3820C3E0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1B6E-B4D8-4A2E-8637-C74D1DF9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E669-8EB7-4E25-B61D-0267DAD3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6EF0-7817-4AEC-9D24-42EBF502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054-BD6F-4648-A333-53ED7BBE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D81A-0C75-4512-A5DD-9866154A90F2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1261-67EF-439C-AB1C-3512CCF4D79E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8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7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9880" y="990720"/>
            <a:ext cx="47246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Toolkit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angun Perpustakaan Berbasis Teknologi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ismail@itb.ac.id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Library Expo 2002, JCC, Jakarta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0" name="PE02002_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3463920" cy="34689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19040" y="4038480"/>
            <a:ext cx="2221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Ismail Fahmi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E01561_" descr=""/>
          <p:cNvPicPr/>
          <p:nvPr/>
        </p:nvPicPr>
        <p:blipFill>
          <a:blip r:embed="rId1"/>
          <a:stretch/>
        </p:blipFill>
        <p:spPr>
          <a:xfrm>
            <a:off x="4343400" y="1981080"/>
            <a:ext cx="1523880" cy="1011240"/>
          </a:xfrm>
          <a:prstGeom prst="rect">
            <a:avLst/>
          </a:prstGeom>
          <a:ln w="0">
            <a:noFill/>
          </a:ln>
        </p:spPr>
      </p:pic>
      <p:pic>
        <p:nvPicPr>
          <p:cNvPr id="202" name="BD06518_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281240" cy="990360"/>
          </a:xfrm>
          <a:prstGeom prst="rect">
            <a:avLst/>
          </a:prstGeom>
          <a:ln w="0">
            <a:noFill/>
          </a:ln>
        </p:spPr>
      </p:pic>
      <p:pic>
        <p:nvPicPr>
          <p:cNvPr id="203" name="BD06662_" descr=""/>
          <p:cNvPicPr/>
          <p:nvPr/>
        </p:nvPicPr>
        <p:blipFill>
          <a:blip r:embed="rId3"/>
          <a:stretch/>
        </p:blipFill>
        <p:spPr>
          <a:xfrm>
            <a:off x="5715000" y="3124080"/>
            <a:ext cx="1793880" cy="1587600"/>
          </a:xfrm>
          <a:prstGeom prst="rect">
            <a:avLst/>
          </a:prstGeom>
          <a:ln w="0">
            <a:noFill/>
          </a:ln>
        </p:spPr>
      </p:pic>
      <p:pic>
        <p:nvPicPr>
          <p:cNvPr id="204" name="BD05545_" descr=""/>
          <p:cNvPicPr/>
          <p:nvPr/>
        </p:nvPicPr>
        <p:blipFill>
          <a:blip r:embed="rId4"/>
          <a:stretch/>
        </p:blipFill>
        <p:spPr>
          <a:xfrm>
            <a:off x="4572000" y="4419720"/>
            <a:ext cx="1211400" cy="1190520"/>
          </a:xfrm>
          <a:prstGeom prst="rect">
            <a:avLst/>
          </a:prstGeom>
          <a:ln w="0">
            <a:noFill/>
          </a:ln>
        </p:spPr>
      </p:pic>
      <p:pic>
        <p:nvPicPr>
          <p:cNvPr id="205" name="PE01846_" descr=""/>
          <p:cNvPicPr/>
          <p:nvPr/>
        </p:nvPicPr>
        <p:blipFill>
          <a:blip r:embed="rId5"/>
          <a:stretch/>
        </p:blipFill>
        <p:spPr>
          <a:xfrm>
            <a:off x="6781680" y="1981080"/>
            <a:ext cx="1833840" cy="804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562720" y="3048120"/>
            <a:ext cx="30456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486400" y="426672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6857640" y="4571640"/>
            <a:ext cx="15228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7467480" y="289548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5240" y="6019920"/>
            <a:ext cx="21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33920" y="300816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K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70320" y="556272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 Speciali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97680" y="277956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165800" y="55627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BS00554_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692280" cy="6033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491080" y="2514600"/>
            <a:ext cx="310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talog bibliografi, Otoma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91440" y="3048120"/>
            <a:ext cx="281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file, Digital Libra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20416200">
            <a:off x="4800600" y="22860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308000">
            <a:off x="4800240" y="29718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rot="21534600">
            <a:off x="4800240" y="26665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91080" y="19810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jang di rak, Tradisional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04560" y="31608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BD06517_" descr=""/>
          <p:cNvPicPr/>
          <p:nvPr/>
        </p:nvPicPr>
        <p:blipFill>
          <a:blip r:embed="rId2"/>
          <a:stretch/>
        </p:blipFill>
        <p:spPr>
          <a:xfrm>
            <a:off x="3962520" y="365760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810240" y="422748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20416200">
            <a:off x="4800240" y="3809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308000">
            <a:off x="4800600" y="42670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21534600">
            <a:off x="4800240" y="403812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489280" y="35812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ment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89640" y="38862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90000" y="42670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E01682_" descr=""/>
          <p:cNvPicPr/>
          <p:nvPr/>
        </p:nvPicPr>
        <p:blipFill>
          <a:blip r:embed="rId3"/>
          <a:stretch/>
        </p:blipFill>
        <p:spPr>
          <a:xfrm>
            <a:off x="3962520" y="4952880"/>
            <a:ext cx="761760" cy="744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89080" y="5715000"/>
            <a:ext cx="9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k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20416200">
            <a:off x="4800240" y="51814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308000">
            <a:off x="4816440" y="575460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21534600">
            <a:off x="4816080" y="544968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89280" y="48769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rtu k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90000" y="5334120"/>
            <a:ext cx="21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 intrane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90000" y="579132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ine catalo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89640" y="617220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2388000">
            <a:off x="4816440" y="60595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2286000"/>
            <a:ext cx="1523880" cy="457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om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4267080"/>
            <a:ext cx="1600200" cy="5335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gital Libr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09880" y="3276720"/>
            <a:ext cx="129564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ngada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atalog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05720" y="3276720"/>
            <a:ext cx="129528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809880" y="3657600"/>
            <a:ext cx="2286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48520" y="3657600"/>
            <a:ext cx="175248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71640" y="266688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95880" y="26668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266688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581280" y="5410080"/>
            <a:ext cx="129564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gital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ganis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77120" y="5410080"/>
            <a:ext cx="12952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semina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5791320"/>
            <a:ext cx="228600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Reposi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5791320"/>
            <a:ext cx="2666880" cy="30456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4647960" y="4800600"/>
            <a:ext cx="11430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72200" y="4800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400800" y="480060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848720" y="5410080"/>
            <a:ext cx="83808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st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2: Analisis, Desain, Development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85800" y="419112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ain Framework T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9625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1814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49528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E01023_" descr=""/>
          <p:cNvPicPr/>
          <p:nvPr/>
        </p:nvPicPr>
        <p:blipFill>
          <a:blip r:embed="rId1"/>
          <a:stretch/>
        </p:blipFill>
        <p:spPr>
          <a:xfrm>
            <a:off x="4759200" y="2286000"/>
            <a:ext cx="1019160" cy="16002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5778720" y="2550960"/>
            <a:ext cx="152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ang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ri awal/no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cr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E01460_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1089000" cy="13525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73440" y="4075200"/>
            <a:ext cx="14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-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BD05584_" descr=""/>
          <p:cNvPicPr/>
          <p:nvPr/>
        </p:nvPicPr>
        <p:blipFill>
          <a:blip r:embed="rId3"/>
          <a:stretch/>
        </p:blipFill>
        <p:spPr>
          <a:xfrm>
            <a:off x="5715000" y="5105520"/>
            <a:ext cx="1009800" cy="13478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845040" y="5218200"/>
            <a:ext cx="13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source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beli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733920" y="3200400"/>
            <a:ext cx="1066680" cy="1828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733920" y="47242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5486400"/>
            <a:ext cx="175248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m Buil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419720" y="2133720"/>
            <a:ext cx="0" cy="121896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43400" y="327672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19720" y="30481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562720" y="266652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26668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6272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480920" y="20415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691320" y="326088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6080" y="22860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563440" y="18288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BIG BANG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4419720" y="4319280"/>
            <a:ext cx="0" cy="121932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5462640"/>
            <a:ext cx="274320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52578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952880" y="502884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0292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650840" y="571500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80920" y="422748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91320" y="5446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21000" y="487692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loy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0168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411520" y="548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50840" y="358128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80168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411520" y="3352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562720" y="48002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480060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623920" y="407520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RDI METHOD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55360" y="4952880"/>
            <a:ext cx="18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Catalogis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 = Sirkul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3: Penerapan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85800" y="320040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ge, Cultur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ward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0880" y="297180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Drive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4480" y="4952880"/>
            <a:ext cx="339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You have to win the hearts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 minds of the  work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not like troop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66"/>
                </a:solidFill>
                <a:latin typeface="Arial"/>
              </a:rPr>
              <a:t>They are more like voluntee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30800" y="2170080"/>
            <a:ext cx="3809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rary team work perlu seora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IMPIN yang mampu membaw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pada kemenangan, CK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ief Knowledge Offic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mo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kasi, motivasi, 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 impact library s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metaan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331880" y="4913280"/>
            <a:ext cx="38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pustakaan modern dan potens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ju perlu memberikan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war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/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nghargaan kepada team. Insentif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valuasi, promosi, dll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4: Evalua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ualitas, dan perbaik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256280" y="2170080"/>
            <a:ext cx="3758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 evaluasi menggunak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ksonomi berdasarkan kategori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dan keingi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gukur kepuas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itor perubahan kebutuh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Strate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mpetisi, tr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al, strukt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Produk dan layan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ebutuhan penggu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sifika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st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75360" y="3770280"/>
            <a:ext cx="3449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ampak penerapan TI d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strategi perpustakaan har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iukur. Apakah bermanfaa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apa yang perlu ditingkatkan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dll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Perlu evaluasi dan pengukuran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 dan target yang jel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jemen Reward yang menari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tusias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si, benchmarking, monitoring, perubaha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ad Ma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SY00451_" descr=""/>
          <p:cNvPicPr/>
          <p:nvPr/>
        </p:nvPicPr>
        <p:blipFill>
          <a:blip r:embed="rId1"/>
          <a:stretch/>
        </p:blipFill>
        <p:spPr>
          <a:xfrm>
            <a:off x="5334120" y="838080"/>
            <a:ext cx="2687400" cy="3191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dan T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a itu PERPUSTAKA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enis perpustakaan: pribadi, institusi, umum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 dapat MENDUKUNG fungsi perpustakaan: pengadaan, katalogisasi, sirkulasi, pencarian informasi, statistik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jaksana dalam menerapkan TI di perpustakaan: Kapan dan dimana TI digunak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BD05297_" descr=""/>
          <p:cNvPicPr/>
          <p:nvPr/>
        </p:nvPicPr>
        <p:blipFill>
          <a:blip r:embed="rId1"/>
          <a:stretch/>
        </p:blipFill>
        <p:spPr>
          <a:xfrm>
            <a:off x="6248520" y="914400"/>
            <a:ext cx="160164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Pribadi vs Toko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. Pribadi di rumah-rumah, keperluan sendiri, biasanya tidak perlu TI. Koleksi sedikit, dan kenyamanan lokasi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pustakaan koleksi khusus (Tokoh) misal Bung Karno, Roosevelt, … banyak dicari orang. Koleksi lebih penting dari pada lokas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E01753_" descr=""/>
          <p:cNvPicPr/>
          <p:nvPr/>
        </p:nvPicPr>
        <p:blipFill>
          <a:blip r:embed="rId1"/>
          <a:stretch/>
        </p:blipFill>
        <p:spPr>
          <a:xfrm>
            <a:off x="0" y="304920"/>
            <a:ext cx="133524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pustakaan institusi vs um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: universitas, company, dll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mum: perpumda, pondok baca,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nyamanan lokasi dan kelengkapan koleksi sangat pen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yani pengguna yang banyak dan lu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lu dukungan TI baik minimal maupun maxima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E03254_" descr=""/>
          <p:cNvPicPr/>
          <p:nvPr/>
        </p:nvPicPr>
        <p:blipFill>
          <a:blip r:embed="rId1"/>
          <a:stretch/>
        </p:blipFill>
        <p:spPr>
          <a:xfrm>
            <a:off x="7086600" y="914400"/>
            <a:ext cx="14065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BD00028_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209680" cy="21654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kah Perpustakan Anda Butuh T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nerapan TI bukan sekedar gengsi, tetapi sebuah strateg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apa  perlu TI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apa yang membutuh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jauh mana TI akan diterapk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gaimana strategi peningkatan skill SDM pendukung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l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oad Map: 4 Fas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56272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3200400"/>
            <a:ext cx="2514600" cy="8380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sis, Desa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24280" y="2286000"/>
            <a:ext cx="190512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nerap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572000"/>
            <a:ext cx="914400" cy="8380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514600" y="4952880"/>
            <a:ext cx="7621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733920" y="4038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72880" y="5410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uh 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502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4880" y="510552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8360" y="41148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029200" y="2895120"/>
            <a:ext cx="2286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4572000"/>
            <a:ext cx="14479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hen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1143000"/>
            <a:ext cx="1752480" cy="609480"/>
          </a:xfrm>
          <a:prstGeom prst="rect">
            <a:avLst/>
          </a:prstGeom>
          <a:solidFill>
            <a:srgbClr val="00cc99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400800" y="1752480"/>
            <a:ext cx="30492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 Institus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BS00554_" descr=""/>
          <p:cNvPicPr/>
          <p:nvPr/>
        </p:nvPicPr>
        <p:blipFill>
          <a:blip r:embed="rId1"/>
          <a:stretch/>
        </p:blipFill>
        <p:spPr>
          <a:xfrm>
            <a:off x="4343400" y="2057400"/>
            <a:ext cx="768240" cy="671400"/>
          </a:xfrm>
          <a:prstGeom prst="rect">
            <a:avLst/>
          </a:prstGeom>
          <a:ln w="0">
            <a:noFill/>
          </a:ln>
        </p:spPr>
      </p:pic>
      <p:pic>
        <p:nvPicPr>
          <p:cNvPr id="149" name="PE01460_" descr=""/>
          <p:cNvPicPr/>
          <p:nvPr/>
        </p:nvPicPr>
        <p:blipFill>
          <a:blip r:embed="rId2"/>
          <a:stretch/>
        </p:blipFill>
        <p:spPr>
          <a:xfrm>
            <a:off x="6219720" y="1523880"/>
            <a:ext cx="843120" cy="1047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421880" y="26668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70520" y="251460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umen tekn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65400" y="403848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BD05158_" descr=""/>
          <p:cNvPicPr/>
          <p:nvPr/>
        </p:nvPicPr>
        <p:blipFill>
          <a:blip r:embed="rId3"/>
          <a:stretch/>
        </p:blipFill>
        <p:spPr>
          <a:xfrm>
            <a:off x="4876920" y="4495680"/>
            <a:ext cx="888840" cy="860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73440" y="5334120"/>
            <a:ext cx="15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mbar, fot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dio,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BS00580_" descr=""/>
          <p:cNvPicPr/>
          <p:nvPr/>
        </p:nvPicPr>
        <p:blipFill>
          <a:blip r:embed="rId4"/>
          <a:stretch/>
        </p:blipFill>
        <p:spPr>
          <a:xfrm>
            <a:off x="4191120" y="3352680"/>
            <a:ext cx="839520" cy="708120"/>
          </a:xfrm>
          <a:prstGeom prst="rect">
            <a:avLst/>
          </a:prstGeom>
          <a:ln w="0">
            <a:noFill/>
          </a:ln>
        </p:spPr>
      </p:pic>
      <p:pic>
        <p:nvPicPr>
          <p:cNvPr id="156" name="EN00354_" descr=""/>
          <p:cNvPicPr/>
          <p:nvPr/>
        </p:nvPicPr>
        <p:blipFill>
          <a:blip r:embed="rId5"/>
          <a:stretch/>
        </p:blipFill>
        <p:spPr>
          <a:xfrm>
            <a:off x="5410080" y="4724280"/>
            <a:ext cx="843120" cy="660600"/>
          </a:xfrm>
          <a:prstGeom prst="rect">
            <a:avLst/>
          </a:prstGeom>
          <a:ln w="0">
            <a:noFill/>
          </a:ln>
        </p:spPr>
      </p:pic>
      <p:pic>
        <p:nvPicPr>
          <p:cNvPr id="157" name="BD06675_" descr=""/>
          <p:cNvPicPr/>
          <p:nvPr/>
        </p:nvPicPr>
        <p:blipFill>
          <a:blip r:embed="rId6"/>
          <a:stretch/>
        </p:blipFill>
        <p:spPr>
          <a:xfrm>
            <a:off x="6629400" y="5029200"/>
            <a:ext cx="777960" cy="961920"/>
          </a:xfrm>
          <a:prstGeom prst="rect">
            <a:avLst/>
          </a:prstGeom>
          <a:ln w="0">
            <a:noFill/>
          </a:ln>
        </p:spPr>
      </p:pic>
      <p:pic>
        <p:nvPicPr>
          <p:cNvPr id="158" name="PE01561_" descr=""/>
          <p:cNvPicPr/>
          <p:nvPr/>
        </p:nvPicPr>
        <p:blipFill>
          <a:blip r:embed="rId7"/>
          <a:stretch/>
        </p:blipFill>
        <p:spPr>
          <a:xfrm>
            <a:off x="7315200" y="4141800"/>
            <a:ext cx="1376280" cy="912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023160" y="594360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ldwide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58720" y="4989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274320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943600" y="4266720"/>
            <a:ext cx="1522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781680" y="4419360"/>
            <a:ext cx="1526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2590920"/>
            <a:ext cx="759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086600" y="403812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7800" y="4724280"/>
            <a:ext cx="4398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pa koleksi yang dimilik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Siapa yang memanfaatk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Dari mana, kapan, dan bagaimana 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mereka mengaks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dakah proses yang membutuhkan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dukungan teknologi informas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9528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e 1: Evaluasi (lanjutan.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209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isa Kondisi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at 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352680"/>
            <a:ext cx="281952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pustakaan d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ateg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198108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048120"/>
            <a:ext cx="533520" cy="4572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3048120"/>
            <a:ext cx="2057400" cy="1295280"/>
          </a:xfrm>
          <a:prstGeom prst="cloudCallout">
            <a:avLst>
              <a:gd name="adj1" fmla="val -17513"/>
              <a:gd name="adj2" fmla="val 3259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pusta-ka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E01561_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1911240" cy="12686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509280" y="297180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penggun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BD08911_" descr=""/>
          <p:cNvPicPr/>
          <p:nvPr/>
        </p:nvPicPr>
        <p:blipFill>
          <a:blip r:embed="rId2"/>
          <a:stretch/>
        </p:blipFill>
        <p:spPr>
          <a:xfrm>
            <a:off x="4038480" y="3657600"/>
            <a:ext cx="1135080" cy="10684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385080" y="4761000"/>
            <a:ext cx="206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si ya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reka butuh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BD06639_" descr=""/>
          <p:cNvPicPr/>
          <p:nvPr/>
        </p:nvPicPr>
        <p:blipFill>
          <a:blip r:embed="rId3"/>
          <a:stretch/>
        </p:blipFill>
        <p:spPr>
          <a:xfrm>
            <a:off x="6095880" y="1676520"/>
            <a:ext cx="920880" cy="9205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6251040" y="251460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BS00554_" descr=""/>
          <p:cNvPicPr/>
          <p:nvPr/>
        </p:nvPicPr>
        <p:blipFill>
          <a:blip r:embed="rId4"/>
          <a:stretch/>
        </p:blipFill>
        <p:spPr>
          <a:xfrm>
            <a:off x="5867280" y="4648320"/>
            <a:ext cx="1378080" cy="1201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177160" y="5904000"/>
            <a:ext cx="27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oleksi yang disediaka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E01682_" descr=""/>
          <p:cNvPicPr/>
          <p:nvPr/>
        </p:nvPicPr>
        <p:blipFill>
          <a:blip r:embed="rId5"/>
          <a:stretch/>
        </p:blipFill>
        <p:spPr>
          <a:xfrm>
            <a:off x="7391520" y="3886200"/>
            <a:ext cx="1163520" cy="1136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7359840" y="498960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live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6668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9718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029200" y="4114800"/>
            <a:ext cx="5335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6781680" y="434304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7162560" y="4191120"/>
            <a:ext cx="22860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BD06790_" descr=""/>
          <p:cNvPicPr/>
          <p:nvPr/>
        </p:nvPicPr>
        <p:blipFill>
          <a:blip r:embed="rId6"/>
          <a:stretch/>
        </p:blipFill>
        <p:spPr>
          <a:xfrm>
            <a:off x="7696080" y="1905120"/>
            <a:ext cx="10512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548480" y="285588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 TI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7238520" y="2666880"/>
            <a:ext cx="30492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02:46:44Z</dcterms:created>
  <dc:creator>Ismail Fahmi</dc:creator>
  <dc:description/>
  <dc:language>en-US</dc:language>
  <cp:lastModifiedBy>Ismail Fahmi</cp:lastModifiedBy>
  <dcterms:modified xsi:type="dcterms:W3CDTF">2002-07-30T16:36:23Z</dcterms:modified>
  <cp:revision>18</cp:revision>
  <dc:subject/>
  <dc:title>Toolkit Teknologi Informasi di Perpustakaan</dc:title>
</cp:coreProperties>
</file>