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685800" y="533520"/>
            <a:ext cx="7924680" cy="57913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4533840" y="632448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0" y="424"/>
                </a:moveTo>
                <a:lnTo>
                  <a:pt x="213" y="424"/>
                </a:lnTo>
                <a:lnTo>
                  <a:pt x="106" y="0"/>
                </a:lnTo>
                <a:lnTo>
                  <a:pt x="0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33840" y="304920"/>
            <a:ext cx="76680" cy="152640"/>
          </a:xfrm>
          <a:custGeom>
            <a:avLst/>
            <a:gdLst/>
            <a:ahLst/>
            <a:rect l="0" t="0" r="r" b="b"/>
            <a:pathLst>
              <a:path w="213" h="424">
                <a:moveTo>
                  <a:pt x="213" y="424"/>
                </a:moveTo>
                <a:lnTo>
                  <a:pt x="0" y="424"/>
                </a:lnTo>
                <a:lnTo>
                  <a:pt x="106" y="0"/>
                </a:lnTo>
                <a:lnTo>
                  <a:pt x="213" y="424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686800" y="3390840"/>
            <a:ext cx="152640" cy="76680"/>
          </a:xfrm>
          <a:custGeom>
            <a:avLst/>
            <a:gdLst/>
            <a:ahLst/>
            <a:rect l="0" t="0" r="r" b="b"/>
            <a:pathLst>
              <a:path w="424" h="213">
                <a:moveTo>
                  <a:pt x="424" y="213"/>
                </a:moveTo>
                <a:lnTo>
                  <a:pt x="0" y="213"/>
                </a:lnTo>
                <a:lnTo>
                  <a:pt x="211" y="0"/>
                </a:lnTo>
                <a:lnTo>
                  <a:pt x="424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390840"/>
            <a:ext cx="152640" cy="76680"/>
          </a:xfrm>
          <a:custGeom>
            <a:avLst/>
            <a:gdLst/>
            <a:ahLst/>
            <a:rect l="0" t="0" r="r" b="b"/>
            <a:pathLst>
              <a:path w="424" h="213">
                <a:moveTo>
                  <a:pt x="0" y="213"/>
                </a:moveTo>
                <a:lnTo>
                  <a:pt x="424" y="213"/>
                </a:lnTo>
                <a:lnTo>
                  <a:pt x="211" y="0"/>
                </a:lnTo>
                <a:lnTo>
                  <a:pt x="0" y="213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3429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2286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839080" y="34290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64771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304920"/>
            <a:ext cx="24382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304920"/>
            <a:ext cx="304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01000" y="304920"/>
            <a:ext cx="304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533520"/>
            <a:ext cx="37339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848720" y="7621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86600" y="7621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7621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9907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86600" y="9907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9907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848720" y="1219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86600" y="1219320"/>
            <a:ext cx="7621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219320"/>
            <a:ext cx="22096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6095880"/>
            <a:ext cx="121932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6095880"/>
            <a:ext cx="11430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34120" y="60958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1880" y="579132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579132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4120" y="579132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62720" y="579132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34120" y="5181480"/>
            <a:ext cx="3276720" cy="6094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4800600"/>
            <a:ext cx="3276720" cy="3808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6095880"/>
            <a:ext cx="152388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579132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809880" y="4800600"/>
            <a:ext cx="15238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107040" y="270000"/>
            <a:ext cx="6253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WG 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7940520" y="255600"/>
            <a:ext cx="2937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8240760" y="26352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665680" y="806400"/>
            <a:ext cx="7412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280280" y="798480"/>
            <a:ext cx="404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947000" y="798480"/>
            <a:ext cx="62388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PPRO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275440" y="5797440"/>
            <a:ext cx="3650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IZ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318280" y="6140520"/>
            <a:ext cx="4478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CALE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375680" y="6140520"/>
            <a:ext cx="457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HEE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808600" y="5176800"/>
            <a:ext cx="2249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udio Distribution Pan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560" y="5504040"/>
            <a:ext cx="131112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lenn E. Cabana, W1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16640" y="5797440"/>
            <a:ext cx="520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DWG 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8305920" y="579744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861080" y="806400"/>
            <a:ext cx="34920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537240" y="569880"/>
            <a:ext cx="62856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6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VISION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762120"/>
            <a:ext cx="304920" cy="685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288200" y="5504040"/>
            <a:ext cx="1368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arles F. Hunt, KC1O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283360" y="5842080"/>
            <a:ext cx="318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914400"/>
            <a:ext cx="381240" cy="152640"/>
          </a:xfrm>
          <a:custGeom>
            <a:avLst/>
            <a:gdLst/>
            <a:ahLst/>
            <a:rect l="0" t="0" r="r" b="b"/>
            <a:pathLst>
              <a:path fill="none" w="1059" h="424">
                <a:moveTo>
                  <a:pt x="0" y="211"/>
                </a:moveTo>
                <a:lnTo>
                  <a:pt x="211" y="424"/>
                </a:lnTo>
                <a:lnTo>
                  <a:pt x="847" y="424"/>
                </a:lnTo>
                <a:lnTo>
                  <a:pt x="1059" y="211"/>
                </a:lnTo>
                <a:lnTo>
                  <a:pt x="847" y="0"/>
                </a:lnTo>
                <a:lnTo>
                  <a:pt x="211" y="0"/>
                </a:lnTo>
                <a:lnTo>
                  <a:pt x="0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219320"/>
            <a:ext cx="381240" cy="152640"/>
          </a:xfrm>
          <a:custGeom>
            <a:avLst/>
            <a:gdLst/>
            <a:ahLst/>
            <a:rect l="0" t="0" r="r" b="b"/>
            <a:pathLst>
              <a:path fill="none" w="1059" h="424">
                <a:moveTo>
                  <a:pt x="0" y="211"/>
                </a:moveTo>
                <a:lnTo>
                  <a:pt x="211" y="424"/>
                </a:lnTo>
                <a:lnTo>
                  <a:pt x="847" y="424"/>
                </a:lnTo>
                <a:lnTo>
                  <a:pt x="1059" y="211"/>
                </a:lnTo>
                <a:lnTo>
                  <a:pt x="847" y="0"/>
                </a:lnTo>
                <a:lnTo>
                  <a:pt x="211" y="0"/>
                </a:lnTo>
                <a:lnTo>
                  <a:pt x="0" y="211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9907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14680" y="3962520"/>
            <a:ext cx="75960" cy="382320"/>
            <a:chOff x="1714680" y="3962520"/>
            <a:chExt cx="75960" cy="382320"/>
          </a:xfrm>
        </p:grpSpPr>
        <p:sp>
          <p:nvSpPr>
            <p:cNvPr id="96" name=""/>
            <p:cNvSpPr/>
            <p:nvPr/>
          </p:nvSpPr>
          <p:spPr>
            <a:xfrm flipV="1">
              <a:off x="1752480" y="4316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1714680" y="429084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714680" y="423540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1714680" y="418140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714680" y="412596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1714680" y="407196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1714680" y="401652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1752480" y="399096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1752480" y="39625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257480" y="3962520"/>
            <a:ext cx="75960" cy="382320"/>
            <a:chOff x="1257480" y="3962520"/>
            <a:chExt cx="75960" cy="382320"/>
          </a:xfrm>
        </p:grpSpPr>
        <p:sp>
          <p:nvSpPr>
            <p:cNvPr id="106" name=""/>
            <p:cNvSpPr/>
            <p:nvPr/>
          </p:nvSpPr>
          <p:spPr>
            <a:xfrm flipV="1">
              <a:off x="1295280" y="431640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 flipV="1">
              <a:off x="1257480" y="4290840"/>
              <a:ext cx="3780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257480" y="423540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257480" y="418140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1257480" y="412596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flipV="1">
              <a:off x="1257480" y="4071960"/>
              <a:ext cx="75960" cy="54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1257480" y="4016520"/>
              <a:ext cx="75960" cy="55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295280" y="3990960"/>
              <a:ext cx="38160" cy="25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295280" y="3962520"/>
              <a:ext cx="0" cy="2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7620120" y="327672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781680" y="41101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481800" y="3543480"/>
            <a:ext cx="304920" cy="75960"/>
            <a:chOff x="6481800" y="3543480"/>
            <a:chExt cx="304920" cy="75960"/>
          </a:xfrm>
        </p:grpSpPr>
        <p:sp>
          <p:nvSpPr>
            <p:cNvPr id="118" name=""/>
            <p:cNvSpPr/>
            <p:nvPr/>
          </p:nvSpPr>
          <p:spPr>
            <a:xfrm>
              <a:off x="648180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6504120" y="3543480"/>
              <a:ext cx="20520" cy="3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2464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656892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176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665640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9924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43880" y="358128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76440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7359480" y="34290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404120" y="34290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42280" y="342900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019920" y="342900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207200" y="38862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242120" y="38862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289640" y="395748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394320" y="396252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62920" y="3429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81680" y="3581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08660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40080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640080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35812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0866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701028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162920" y="34290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086600" y="3429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095880" y="3924360"/>
            <a:ext cx="304920" cy="76320"/>
            <a:chOff x="6095880" y="3924360"/>
            <a:chExt cx="304920" cy="76320"/>
          </a:xfrm>
        </p:grpSpPr>
        <p:sp>
          <p:nvSpPr>
            <p:cNvPr id="146" name=""/>
            <p:cNvSpPr/>
            <p:nvPr/>
          </p:nvSpPr>
          <p:spPr>
            <a:xfrm>
              <a:off x="609588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118200" y="39243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3872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18336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26200" y="39243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27048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1332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6357960" y="39625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7848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70572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553080" y="43434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47712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019920" y="43434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019920" y="28954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791320" y="39625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5791320" y="24382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384960" y="338940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9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004080" y="3770280"/>
            <a:ext cx="5047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10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375240" y="40417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308640" y="445608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994440" y="407520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7023240" y="32623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67080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985000" y="3394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182880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781680" y="2662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481800" y="2095560"/>
            <a:ext cx="304920" cy="76320"/>
            <a:chOff x="6481800" y="2095560"/>
            <a:chExt cx="304920" cy="76320"/>
          </a:xfrm>
        </p:grpSpPr>
        <p:sp>
          <p:nvSpPr>
            <p:cNvPr id="174" name=""/>
            <p:cNvSpPr/>
            <p:nvPr/>
          </p:nvSpPr>
          <p:spPr>
            <a:xfrm>
              <a:off x="648180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504120" y="20955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464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656892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61176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665640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9924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6743880" y="21337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6440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9480" y="19810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7404120" y="19810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442280" y="198108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6019920" y="1981080"/>
            <a:ext cx="1346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207200" y="24382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242120" y="24382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89640" y="250992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394320" y="2514600"/>
            <a:ext cx="8193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292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6781680" y="2133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7086600" y="2362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6400800" y="2362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40080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00800" y="2133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701028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2920" y="19810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7086600" y="19810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095880" y="2476440"/>
            <a:ext cx="304920" cy="76320"/>
            <a:chOff x="6095880" y="2476440"/>
            <a:chExt cx="304920" cy="76320"/>
          </a:xfrm>
        </p:grpSpPr>
        <p:sp>
          <p:nvSpPr>
            <p:cNvPr id="202" name=""/>
            <p:cNvSpPr/>
            <p:nvPr/>
          </p:nvSpPr>
          <p:spPr>
            <a:xfrm>
              <a:off x="609588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118200" y="247644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3872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18336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26200" y="247644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27048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332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357960" y="251460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7848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0572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553080" y="28954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5530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647712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01992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019920" y="152388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791320" y="25146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5791320" y="16765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384960" y="19414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7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04080" y="232236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8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375240" y="25938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308640" y="300816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994440" y="262728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023240" y="18144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67080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985000" y="1946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85000" y="28605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27672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657600" y="4110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357720" y="3543480"/>
            <a:ext cx="304560" cy="75960"/>
            <a:chOff x="3357720" y="3543480"/>
            <a:chExt cx="304560" cy="75960"/>
          </a:xfrm>
        </p:grpSpPr>
        <p:sp>
          <p:nvSpPr>
            <p:cNvPr id="231" name=""/>
            <p:cNvSpPr/>
            <p:nvPr/>
          </p:nvSpPr>
          <p:spPr>
            <a:xfrm>
              <a:off x="3357720" y="3581280"/>
              <a:ext cx="2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379680" y="3543480"/>
              <a:ext cx="20880" cy="37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0056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44484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87680" y="3543480"/>
              <a:ext cx="446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532320" y="3543480"/>
              <a:ext cx="4284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75160" y="3543480"/>
              <a:ext cx="44280" cy="75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3619440" y="358128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39960" y="358128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235400" y="342900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4280040" y="34290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17840" y="342900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2895480" y="342900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4083120" y="3886200"/>
            <a:ext cx="44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118040" y="388620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165560" y="395748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3270240" y="396252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038480" y="3429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657600" y="35812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9625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7672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276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3581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3962520" y="38862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3886200" y="38862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38480" y="3429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962520" y="342900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971800" y="3924360"/>
            <a:ext cx="304920" cy="76320"/>
            <a:chOff x="2971800" y="3924360"/>
            <a:chExt cx="304920" cy="76320"/>
          </a:xfrm>
        </p:grpSpPr>
        <p:sp>
          <p:nvSpPr>
            <p:cNvPr id="259" name=""/>
            <p:cNvSpPr/>
            <p:nvPr/>
          </p:nvSpPr>
          <p:spPr>
            <a:xfrm>
              <a:off x="297180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2994120" y="392436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01464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05928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102120" y="39243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146400" y="39243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189240" y="39243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3233880" y="39625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54400" y="39625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581280" y="3962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3429000" y="4343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342900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3352680" y="41911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1295280" y="4343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2895480" y="2743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295280" y="39625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666880" y="25146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260880" y="338940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5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879640" y="37702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6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251160" y="40417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184560" y="445608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870360" y="407520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98800" y="326232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636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60560" y="33940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3196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495680" y="1828800"/>
            <a:ext cx="76320" cy="8380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2662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3357720" y="2095560"/>
            <a:ext cx="304560" cy="76320"/>
            <a:chOff x="3357720" y="2095560"/>
            <a:chExt cx="304560" cy="76320"/>
          </a:xfrm>
        </p:grpSpPr>
        <p:sp>
          <p:nvSpPr>
            <p:cNvPr id="288" name=""/>
            <p:cNvSpPr/>
            <p:nvPr/>
          </p:nvSpPr>
          <p:spPr>
            <a:xfrm>
              <a:off x="3357720" y="2133720"/>
              <a:ext cx="219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379680" y="2095560"/>
              <a:ext cx="2088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0056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44484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87680" y="209556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32320" y="209556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75160" y="209556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619440" y="213372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639960" y="213372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235400" y="1981080"/>
            <a:ext cx="446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4280040" y="19810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17840" y="1981080"/>
            <a:ext cx="101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895480" y="1981080"/>
            <a:ext cx="1346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4083120" y="2438280"/>
            <a:ext cx="4428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118040" y="2438280"/>
            <a:ext cx="4284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165560" y="2509920"/>
            <a:ext cx="1015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270240" y="2514600"/>
            <a:ext cx="819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3848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65760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962520" y="2362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276720" y="23623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3276720" y="2133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276720" y="213372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3962520" y="24382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3886200" y="24382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198108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3962520" y="1981080"/>
            <a:ext cx="7596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971800" y="2476440"/>
            <a:ext cx="304920" cy="76320"/>
            <a:chOff x="2971800" y="2476440"/>
            <a:chExt cx="304920" cy="76320"/>
          </a:xfrm>
        </p:grpSpPr>
        <p:sp>
          <p:nvSpPr>
            <p:cNvPr id="316" name=""/>
            <p:cNvSpPr/>
            <p:nvPr/>
          </p:nvSpPr>
          <p:spPr>
            <a:xfrm>
              <a:off x="297180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94120" y="247644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01464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305928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102120" y="2476440"/>
              <a:ext cx="442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46400" y="2476440"/>
              <a:ext cx="428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189240" y="2476440"/>
              <a:ext cx="4464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233880" y="2514600"/>
              <a:ext cx="20520" cy="38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54400" y="2514600"/>
              <a:ext cx="22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3581280" y="2514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3429000" y="28954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342900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352680" y="2743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289548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2895480" y="990720"/>
            <a:ext cx="0" cy="1904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2666880" y="25146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666880" y="12952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260880" y="194148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3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879640" y="2322360"/>
            <a:ext cx="4586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4 68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251160" y="25938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184560" y="3008160"/>
            <a:ext cx="4129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1.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: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f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870360" y="2627280"/>
            <a:ext cx="6415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Jack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98800" y="1814400"/>
            <a:ext cx="27612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J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54636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60560" y="19461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60560" y="28605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756400" y="24796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2666880" y="167652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895480" y="15238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31960" y="3938760"/>
            <a:ext cx="4932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731960" y="4319640"/>
            <a:ext cx="49320" cy="55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4320" bIns="43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600200" y="1295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631960" y="1641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31960" y="39276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60560" y="43084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60560" y="148896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279440" y="3990960"/>
            <a:ext cx="322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736640" y="3990960"/>
            <a:ext cx="3222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R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20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5W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127160" y="3770280"/>
            <a:ext cx="1281240" cy="1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 Balancing Resisto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050840" y="1407960"/>
            <a:ext cx="6872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 Input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r>
              <a:rPr b="1" lang="en-US" sz="600" spc="-1" strike="noStrike">
                <a:solidFill>
                  <a:srgbClr val="000000"/>
                </a:solidFill>
                <a:latin typeface="WP Greek Courier"/>
                <a:ea typeface="WP Greek Courier"/>
              </a:rPr>
              <a:t>S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 Nominal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56000" y="95580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346480" y="722160"/>
            <a:ext cx="4586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Audi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  <a:ea typeface="Courier New"/>
              </a:rPr>
              <a:t>Grou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90920" y="990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52760" y="11383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0" y="213"/>
                </a:moveTo>
                <a:lnTo>
                  <a:pt x="213" y="213"/>
                </a:lnTo>
                <a:lnTo>
                  <a:pt x="106" y="0"/>
                </a:lnTo>
                <a:lnTo>
                  <a:pt x="0" y="213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7756560" y="6110280"/>
            <a:ext cx="5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 of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69960" y="4662360"/>
            <a:ext cx="3049560" cy="16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1) Four of 16 circuits shown, all par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Radio Shack Part Numb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2) 30Watt PA Amplifier, #32-20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3) Nova 35 stereo headphones, #33-1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4) 3 Conductor Mini-jacks, #274-2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5) 20 Ft. microphone extension cables, #42-24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6) 1 Ft. cable with volume control, #42-24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937040" y="1004760"/>
            <a:ext cx="2444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165640" y="1004760"/>
            <a:ext cx="116064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Original rele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7070760" y="1004760"/>
            <a:ext cx="54936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5/5/9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380880" y="228600"/>
            <a:ext cx="7925040" cy="4267080"/>
            <a:chOff x="380880" y="228600"/>
            <a:chExt cx="7925040" cy="4267080"/>
          </a:xfrm>
        </p:grpSpPr>
        <p:sp>
          <p:nvSpPr>
            <p:cNvPr id="366" name=""/>
            <p:cNvSpPr/>
            <p:nvPr/>
          </p:nvSpPr>
          <p:spPr>
            <a:xfrm flipV="1">
              <a:off x="3808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880" y="2286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858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49528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2952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16002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880" y="5335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0880" y="8380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0880" y="11430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0880" y="14479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0880" y="17524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3059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0880" y="20574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23623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880" y="26668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29718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880" y="32767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4495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24080" y="4495680"/>
              <a:ext cx="24386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86600" y="449568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0880" y="358128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0880" y="388620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0880" y="4191120"/>
              <a:ext cx="7925040" cy="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1240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34290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7339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0384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43434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46483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9907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52578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55627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58672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17220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4771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16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0866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9152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69608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8001000" y="228600"/>
              <a:ext cx="0" cy="42670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1600200" y="4191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819520" y="4191120"/>
              <a:ext cx="30456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67280" y="4191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5562720" y="4191120"/>
              <a:ext cx="30456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1680" y="4191120"/>
              <a:ext cx="304920" cy="3045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19051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220968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251460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819520" y="22860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100000" sp="100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905120" y="419112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 txBox="1"/>
          <p:nvPr/>
        </p:nvSpPr>
        <p:spPr>
          <a:xfrm>
            <a:off x="7564320" y="6337440"/>
            <a:ext cx="13413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cale: 2 x 2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267080" y="2286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267080" y="31240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7696080" y="533520"/>
            <a:ext cx="457200" cy="914400"/>
            <a:chOff x="7696080" y="533520"/>
            <a:chExt cx="457200" cy="914400"/>
          </a:xfrm>
        </p:grpSpPr>
        <p:sp>
          <p:nvSpPr>
            <p:cNvPr id="420" name=""/>
            <p:cNvSpPr/>
            <p:nvPr/>
          </p:nvSpPr>
          <p:spPr>
            <a:xfrm>
              <a:off x="800100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9608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0100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80880" y="62485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086600" y="1752480"/>
            <a:ext cx="457200" cy="914400"/>
            <a:chOff x="7086600" y="1752480"/>
            <a:chExt cx="457200" cy="914400"/>
          </a:xfrm>
        </p:grpSpPr>
        <p:sp>
          <p:nvSpPr>
            <p:cNvPr id="425" name=""/>
            <p:cNvSpPr/>
            <p:nvPr/>
          </p:nvSpPr>
          <p:spPr>
            <a:xfrm>
              <a:off x="73915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0866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915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7086600" y="533520"/>
            <a:ext cx="457200" cy="914400"/>
            <a:chOff x="7086600" y="533520"/>
            <a:chExt cx="457200" cy="914400"/>
          </a:xfrm>
        </p:grpSpPr>
        <p:sp>
          <p:nvSpPr>
            <p:cNvPr id="429" name=""/>
            <p:cNvSpPr/>
            <p:nvPr/>
          </p:nvSpPr>
          <p:spPr>
            <a:xfrm>
              <a:off x="739152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08660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39152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7696080" y="1752480"/>
            <a:ext cx="457200" cy="914400"/>
            <a:chOff x="7696080" y="1752480"/>
            <a:chExt cx="457200" cy="914400"/>
          </a:xfrm>
        </p:grpSpPr>
        <p:sp>
          <p:nvSpPr>
            <p:cNvPr id="433" name=""/>
            <p:cNvSpPr/>
            <p:nvPr/>
          </p:nvSpPr>
          <p:spPr>
            <a:xfrm>
              <a:off x="80010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60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0010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6477120" y="533520"/>
            <a:ext cx="456840" cy="914400"/>
            <a:chOff x="6477120" y="533520"/>
            <a:chExt cx="456840" cy="914400"/>
          </a:xfrm>
        </p:grpSpPr>
        <p:sp>
          <p:nvSpPr>
            <p:cNvPr id="437" name=""/>
            <p:cNvSpPr/>
            <p:nvPr/>
          </p:nvSpPr>
          <p:spPr>
            <a:xfrm>
              <a:off x="678168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7712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78168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5867280" y="1752480"/>
            <a:ext cx="457200" cy="914400"/>
            <a:chOff x="5867280" y="1752480"/>
            <a:chExt cx="457200" cy="914400"/>
          </a:xfrm>
        </p:grpSpPr>
        <p:sp>
          <p:nvSpPr>
            <p:cNvPr id="441" name=""/>
            <p:cNvSpPr/>
            <p:nvPr/>
          </p:nvSpPr>
          <p:spPr>
            <a:xfrm>
              <a:off x="61722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8672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1722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5867280" y="533520"/>
            <a:ext cx="457200" cy="914400"/>
            <a:chOff x="5867280" y="533520"/>
            <a:chExt cx="457200" cy="914400"/>
          </a:xfrm>
        </p:grpSpPr>
        <p:sp>
          <p:nvSpPr>
            <p:cNvPr id="445" name=""/>
            <p:cNvSpPr/>
            <p:nvPr/>
          </p:nvSpPr>
          <p:spPr>
            <a:xfrm>
              <a:off x="617220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7220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477120" y="1752480"/>
            <a:ext cx="456840" cy="914400"/>
            <a:chOff x="6477120" y="1752480"/>
            <a:chExt cx="456840" cy="914400"/>
          </a:xfrm>
        </p:grpSpPr>
        <p:sp>
          <p:nvSpPr>
            <p:cNvPr id="449" name=""/>
            <p:cNvSpPr/>
            <p:nvPr/>
          </p:nvSpPr>
          <p:spPr>
            <a:xfrm>
              <a:off x="678168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47712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78168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257800" y="533520"/>
            <a:ext cx="457200" cy="914400"/>
            <a:chOff x="5257800" y="533520"/>
            <a:chExt cx="457200" cy="914400"/>
          </a:xfrm>
        </p:grpSpPr>
        <p:sp>
          <p:nvSpPr>
            <p:cNvPr id="453" name=""/>
            <p:cNvSpPr/>
            <p:nvPr/>
          </p:nvSpPr>
          <p:spPr>
            <a:xfrm>
              <a:off x="5562720" y="6858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257800" y="53352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62720" y="114300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4648320" y="1752480"/>
            <a:ext cx="456840" cy="914400"/>
            <a:chOff x="4648320" y="1752480"/>
            <a:chExt cx="456840" cy="914400"/>
          </a:xfrm>
        </p:grpSpPr>
        <p:sp>
          <p:nvSpPr>
            <p:cNvPr id="457" name=""/>
            <p:cNvSpPr/>
            <p:nvPr/>
          </p:nvSpPr>
          <p:spPr>
            <a:xfrm>
              <a:off x="495288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64832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5288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648320" y="838080"/>
            <a:ext cx="456840" cy="914400"/>
            <a:chOff x="4648320" y="838080"/>
            <a:chExt cx="456840" cy="914400"/>
          </a:xfrm>
        </p:grpSpPr>
        <p:sp>
          <p:nvSpPr>
            <p:cNvPr id="461" name=""/>
            <p:cNvSpPr/>
            <p:nvPr/>
          </p:nvSpPr>
          <p:spPr>
            <a:xfrm>
              <a:off x="495288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832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528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257800" y="1752480"/>
            <a:ext cx="457200" cy="914400"/>
            <a:chOff x="5257800" y="1752480"/>
            <a:chExt cx="457200" cy="914400"/>
          </a:xfrm>
        </p:grpSpPr>
        <p:sp>
          <p:nvSpPr>
            <p:cNvPr id="465" name=""/>
            <p:cNvSpPr/>
            <p:nvPr/>
          </p:nvSpPr>
          <p:spPr>
            <a:xfrm>
              <a:off x="55627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2578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5627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4038480" y="1752480"/>
            <a:ext cx="457200" cy="914400"/>
            <a:chOff x="4038480" y="1752480"/>
            <a:chExt cx="457200" cy="914400"/>
          </a:xfrm>
        </p:grpSpPr>
        <p:sp>
          <p:nvSpPr>
            <p:cNvPr id="469" name=""/>
            <p:cNvSpPr/>
            <p:nvPr/>
          </p:nvSpPr>
          <p:spPr>
            <a:xfrm>
              <a:off x="434340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3848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34340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038480" y="838080"/>
            <a:ext cx="457200" cy="914400"/>
            <a:chOff x="4038480" y="838080"/>
            <a:chExt cx="457200" cy="914400"/>
          </a:xfrm>
        </p:grpSpPr>
        <p:sp>
          <p:nvSpPr>
            <p:cNvPr id="473" name=""/>
            <p:cNvSpPr/>
            <p:nvPr/>
          </p:nvSpPr>
          <p:spPr>
            <a:xfrm>
              <a:off x="434340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03848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4340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429000" y="1752480"/>
            <a:ext cx="457200" cy="914400"/>
            <a:chOff x="3429000" y="1752480"/>
            <a:chExt cx="457200" cy="914400"/>
          </a:xfrm>
        </p:grpSpPr>
        <p:sp>
          <p:nvSpPr>
            <p:cNvPr id="477" name=""/>
            <p:cNvSpPr/>
            <p:nvPr/>
          </p:nvSpPr>
          <p:spPr>
            <a:xfrm>
              <a:off x="3733920" y="19051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29000" y="17524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33920" y="23623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3429000" y="838080"/>
            <a:ext cx="457200" cy="914400"/>
            <a:chOff x="3429000" y="838080"/>
            <a:chExt cx="457200" cy="914400"/>
          </a:xfrm>
        </p:grpSpPr>
        <p:sp>
          <p:nvSpPr>
            <p:cNvPr id="481" name=""/>
            <p:cNvSpPr/>
            <p:nvPr/>
          </p:nvSpPr>
          <p:spPr>
            <a:xfrm>
              <a:off x="373392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42900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73392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65760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335268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762120" y="380880"/>
            <a:ext cx="1904760" cy="2286000"/>
            <a:chOff x="762120" y="380880"/>
            <a:chExt cx="1904760" cy="2286000"/>
          </a:xfrm>
        </p:grpSpPr>
        <p:grpSp>
          <p:nvGrpSpPr>
            <p:cNvPr id="487" name=""/>
            <p:cNvGrpSpPr/>
            <p:nvPr/>
          </p:nvGrpSpPr>
          <p:grpSpPr>
            <a:xfrm>
              <a:off x="2209680" y="1600200"/>
              <a:ext cx="457200" cy="914400"/>
              <a:chOff x="2209680" y="1600200"/>
              <a:chExt cx="457200" cy="914400"/>
            </a:xfrm>
          </p:grpSpPr>
          <p:sp>
            <p:nvSpPr>
              <p:cNvPr id="488" name=""/>
              <p:cNvSpPr/>
              <p:nvPr/>
            </p:nvSpPr>
            <p:spPr>
              <a:xfrm>
                <a:off x="2514600" y="17524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209680" y="16002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514600" y="22096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2209680" y="685800"/>
              <a:ext cx="457200" cy="914400"/>
              <a:chOff x="2209680" y="685800"/>
              <a:chExt cx="457200" cy="914400"/>
            </a:xfrm>
          </p:grpSpPr>
          <p:sp>
            <p:nvSpPr>
              <p:cNvPr id="492" name=""/>
              <p:cNvSpPr/>
              <p:nvPr/>
            </p:nvSpPr>
            <p:spPr>
              <a:xfrm>
                <a:off x="2514600" y="8380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2209680" y="6858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514600" y="12952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1219320" y="1752480"/>
              <a:ext cx="456840" cy="914400"/>
              <a:chOff x="1219320" y="1752480"/>
              <a:chExt cx="456840" cy="914400"/>
            </a:xfrm>
          </p:grpSpPr>
          <p:sp>
            <p:nvSpPr>
              <p:cNvPr id="496" name=""/>
              <p:cNvSpPr/>
              <p:nvPr/>
            </p:nvSpPr>
            <p:spPr>
              <a:xfrm>
                <a:off x="1523880" y="19051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219320" y="175248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523880" y="2362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121932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5238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1" name=""/>
            <p:cNvGrpSpPr/>
            <p:nvPr/>
          </p:nvGrpSpPr>
          <p:grpSpPr>
            <a:xfrm>
              <a:off x="762120" y="1600200"/>
              <a:ext cx="457200" cy="914400"/>
              <a:chOff x="762120" y="1600200"/>
              <a:chExt cx="457200" cy="914400"/>
            </a:xfrm>
          </p:grpSpPr>
          <p:sp>
            <p:nvSpPr>
              <p:cNvPr id="502" name=""/>
              <p:cNvSpPr/>
              <p:nvPr/>
            </p:nvSpPr>
            <p:spPr>
              <a:xfrm>
                <a:off x="762120" y="17524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990720" y="16002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2120" y="22096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62120" y="685800"/>
              <a:ext cx="457200" cy="914400"/>
              <a:chOff x="762120" y="685800"/>
              <a:chExt cx="457200" cy="914400"/>
            </a:xfrm>
          </p:grpSpPr>
          <p:sp>
            <p:nvSpPr>
              <p:cNvPr id="506" name=""/>
              <p:cNvSpPr/>
              <p:nvPr/>
            </p:nvSpPr>
            <p:spPr>
              <a:xfrm>
                <a:off x="762120" y="8380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90720" y="68580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62120" y="12952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1752480" y="1752480"/>
              <a:ext cx="457200" cy="914400"/>
              <a:chOff x="1752480" y="1752480"/>
              <a:chExt cx="457200" cy="914400"/>
            </a:xfrm>
          </p:grpSpPr>
          <p:sp>
            <p:nvSpPr>
              <p:cNvPr id="510" name=""/>
              <p:cNvSpPr/>
              <p:nvPr/>
            </p:nvSpPr>
            <p:spPr>
              <a:xfrm>
                <a:off x="1752480" y="19051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981080" y="1752480"/>
                <a:ext cx="228600" cy="914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1752480" y="23623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"/>
            <p:cNvSpPr/>
            <p:nvPr/>
          </p:nvSpPr>
          <p:spPr>
            <a:xfrm>
              <a:off x="1676520" y="990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81080" y="838080"/>
              <a:ext cx="228600" cy="914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752480" y="1447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66840" y="609480"/>
              <a:ext cx="914400" cy="228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47720" y="38088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3429000" y="33526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343400" y="33526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257800" y="335268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02920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419720" y="37339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838080" y="327672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G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21932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1440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828800" y="3429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09480" y="34290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523880" y="3809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7238880" y="3352680"/>
            <a:ext cx="76212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VE R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924680" y="41148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411480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924680" y="32767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162920" y="32767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889280" y="4213080"/>
            <a:ext cx="947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No 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67280" y="4191120"/>
            <a:ext cx="304920" cy="9144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5638680" y="4419720"/>
            <a:ext cx="152280" cy="609480"/>
            <a:chOff x="5638680" y="4419720"/>
            <a:chExt cx="152280" cy="609480"/>
          </a:xfrm>
        </p:grpSpPr>
        <p:sp>
          <p:nvSpPr>
            <p:cNvPr id="537" name=""/>
            <p:cNvSpPr/>
            <p:nvPr/>
          </p:nvSpPr>
          <p:spPr>
            <a:xfrm>
              <a:off x="5638680" y="44197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638680" y="4876920"/>
              <a:ext cx="152280" cy="152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4343400" y="457200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429000" y="457200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2428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41972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80988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50532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114800" y="495288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5622840" y="1469880"/>
            <a:ext cx="1498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Written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203480" y="1165320"/>
            <a:ext cx="1155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W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3295800" y="3375000"/>
            <a:ext cx="22525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aperwork   Regist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375000" y="4627440"/>
            <a:ext cx="194148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andidate 610 Prepa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156360" y="4518000"/>
            <a:ext cx="11192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eck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arl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0880" y="5410080"/>
            <a:ext cx="914400" cy="3049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2.0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80880" y="5867280"/>
            <a:ext cx="914400" cy="2286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1.5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0880" y="4800600"/>
            <a:ext cx="914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2.5’ x 6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517680" y="6240600"/>
            <a:ext cx="4478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Se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990720" y="6248520"/>
            <a:ext cx="152280" cy="152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8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127160" y="6232680"/>
            <a:ext cx="44136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P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308640" y="3954600"/>
            <a:ext cx="85392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ID Chec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5927760" y="4486320"/>
            <a:ext cx="7984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heck-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Assista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489480" y="3954600"/>
            <a:ext cx="511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Cle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4175280" y="3878280"/>
            <a:ext cx="739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Registr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784760" y="3878280"/>
            <a:ext cx="619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  <a:ea typeface="Century Schoolbook"/>
              </a:rPr>
              <a:t>Ban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lenn E Cabana, Charles F Hunt</dc:creator>
  <dc:description/>
  <dc:language>en-US</dc:language>
  <cp:lastModifiedBy>Glenn E Cabana, Charles F Hunt</cp:lastModifiedBy>
  <cp:revision>0</cp:revision>
  <dc:subject/>
  <dc:title>CW Audio Bar Schematic</dc:title>
</cp:coreProperties>
</file>